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20F-C6FE-4D41-B624-B8E3F5BD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E791-3AC1-483E-8789-506B14D5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D529-4020-4D5E-91A9-D5124DEB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147C-E57F-4747-B3B9-6FE6EA9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6D3-E96D-4523-B87E-E540C4E2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BC21-6EC3-48B3-ADE4-E7AC85AA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8EC4-8C8E-4D79-AFFC-B873D51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F58-96F2-4F3A-886F-80E3F1562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3F96-3ABF-4C21-8533-CE8D67B1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9082-6CAF-4A66-ADCA-4B9B52D0C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1DDA-CA2F-479D-91CB-B7C3AA29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1624-299F-4435-AAC0-885E4503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073F-8DD6-477F-8D73-CF3E8AC827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562800" cy="7391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442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9441000"/>
            <a:ext cx="685800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2286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Mellow Scribbles"/>
              </a:rPr>
              <a:t>Maelstrom Story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533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entury Gothic"/>
              </a:rPr>
              <a:t>Hubri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92203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Mellow Scribbles"/>
              </a:rPr>
              <a:t>Character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143000"/>
            <a:ext cx="2362320" cy="64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echnical"/>
              </a:rPr>
              <a:t>Nam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echnical"/>
              </a:rPr>
              <a:t>Stor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echnical"/>
              </a:rPr>
              <a:t>Descrip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echnical"/>
              </a:rPr>
              <a:t>Primary Affinity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echnical"/>
              </a:rPr>
              <a:t>Descriptor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echnical"/>
              </a:rPr>
              <a:t>Secondary Affinit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echnical"/>
              </a:rPr>
              <a:t>Possession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1280" y="8686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echnical"/>
              </a:rPr>
              <a:t>Story Poi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43400" y="914400"/>
            <a:ext cx="2209680" cy="28195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974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echnic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echnical"/>
              </a:rPr>
              <a:t>Sk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562800" cy="7391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858000" cy="442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0" y="9441000"/>
            <a:ext cx="6858000" cy="46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22860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Mellow Scribbles"/>
              </a:rPr>
              <a:t>Maelstrom Storyt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533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entury Gothic"/>
              </a:rPr>
              <a:t>Hubris 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9220320"/>
            <a:ext cx="6324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Mellow Scribbles"/>
              </a:rPr>
              <a:t>Character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22:53:45Z</dcterms:created>
  <dc:creator>JeePee</dc:creator>
  <dc:description/>
  <dc:language>en-US</dc:language>
  <cp:lastModifiedBy>JeePee</cp:lastModifiedBy>
  <cp:lastPrinted>1999-12-06T17:55:32Z</cp:lastPrinted>
  <dcterms:modified xsi:type="dcterms:W3CDTF">1999-12-06T17:56:20Z</dcterms:modified>
  <cp:revision>3</cp:revision>
  <dc:subject/>
  <dc:title>Aucun titre de diapositive</dc:title>
</cp:coreProperties>
</file>