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6595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0FC6-2C21-4862-A21A-BE2CF7FA7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4ECB-63F2-48E1-8F2C-AD0F69C04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21BC-356A-44CD-AADE-DA14BB9BF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462A-A171-49DC-BDED-122250A93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D93E-1303-4DC9-8360-84F057C7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B5C9-A10B-4A31-A7DE-477D7124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8C52-437D-4842-A1FE-F203116B4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753E-64CD-443D-9F3E-068A750F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9E8E-B5B4-49D1-BD2B-990095D5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66EB-0DC7-436D-9D41-FFB75752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E99D-2985-4970-B13A-1146E0CA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9650-0303-49B6-A42B-2A2E4DD3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A000-196C-473C-9155-6B0DF49659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6562800" cy="73915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0" cy="442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9441000"/>
            <a:ext cx="6858000" cy="465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22860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Mellow Scribbles"/>
              </a:rPr>
              <a:t>Maelstrom Storyte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533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Bad Seed"/>
              </a:rPr>
              <a:t>Hubris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2203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ellow Scribbles"/>
              </a:rPr>
              <a:t>Feuille de Personn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914400"/>
            <a:ext cx="236232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Bad Seed"/>
              </a:rPr>
              <a:t>N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Bad Seed"/>
              </a:rPr>
              <a:t>Histoi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Bad Seed"/>
              </a:rPr>
              <a:t>Descripti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Bad Seed"/>
              </a:rPr>
              <a:t>Affinité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Bad Seed"/>
              </a:rPr>
              <a:t>Descripteur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Bad Seed"/>
              </a:rPr>
              <a:t>Défau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Bad Seed"/>
              </a:rPr>
              <a:t>Compétenc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Bad Seed"/>
              </a:rPr>
              <a:t>Possessions &amp; arm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3400" y="86104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d Seed"/>
              </a:rPr>
              <a:t>Points 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 ’</a:t>
            </a:r>
            <a:r>
              <a:rPr b="0" lang="en-US" sz="1400" spc="-1" strike="noStrike">
                <a:solidFill>
                  <a:srgbClr val="000000"/>
                </a:solidFill>
                <a:latin typeface="Bad Seed"/>
              </a:rPr>
              <a:t>aventu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43400" y="914400"/>
            <a:ext cx="2209680" cy="28195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97488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d Seed"/>
              </a:rPr>
              <a:t>Portr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d Seed"/>
              </a:rPr>
              <a:t>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ad Seed"/>
              </a:rPr>
              <a:t>personn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43400" y="542592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d Seed"/>
              </a:rPr>
              <a:t>Niveau de santé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ad Seed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Bad Seed"/>
              </a:rPr>
              <a:t>   En for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ad Seed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Bad Seed"/>
              </a:rPr>
              <a:t>   Bless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ad Seed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Bad Seed"/>
              </a:rPr>
              <a:t>   Etat critiq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ad Seed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Bad Seed"/>
              </a:rPr>
              <a:t>   M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388620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d Seed"/>
              </a:rPr>
              <a:t>Dé(s) de bas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d Seed"/>
              </a:rPr>
              <a:t>Groupe de dé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6562800" cy="73915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0" cy="4428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9441000"/>
            <a:ext cx="6858000" cy="465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22860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Mellow Scribbles"/>
              </a:rPr>
              <a:t>Maelstrom Storyte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533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Bad Seed"/>
              </a:rPr>
              <a:t>Hubris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9220320"/>
            <a:ext cx="63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ellow Scribbles"/>
              </a:rPr>
              <a:t>Feuille de Personn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22:53:45Z</dcterms:created>
  <dc:creator>JeePee</dc:creator>
  <dc:description/>
  <dc:language>en-US</dc:language>
  <cp:lastModifiedBy>JeePee</cp:lastModifiedBy>
  <cp:lastPrinted>1999-12-07T18:21:57Z</cp:lastPrinted>
  <dcterms:modified xsi:type="dcterms:W3CDTF">1999-12-07T18:46:36Z</dcterms:modified>
  <cp:revision>16</cp:revision>
  <dc:subject/>
  <dc:title>Aucun titre de diapositive</dc:title>
</cp:coreProperties>
</file>