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907588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280"/>
            <a:ext cx="6856560" cy="304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710160" y="0"/>
            <a:ext cx="29718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710160" y="609480"/>
            <a:ext cx="2971800" cy="9294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770280" y="128520"/>
            <a:ext cx="2852640" cy="428760"/>
            <a:chOff x="3770280" y="128520"/>
            <a:chExt cx="2852640" cy="428760"/>
          </a:xfrm>
        </p:grpSpPr>
        <p:grpSp>
          <p:nvGrpSpPr>
            <p:cNvPr id="4" name=""/>
            <p:cNvGrpSpPr/>
            <p:nvPr/>
          </p:nvGrpSpPr>
          <p:grpSpPr>
            <a:xfrm>
              <a:off x="3770280" y="128520"/>
              <a:ext cx="428760" cy="428760"/>
              <a:chOff x="3770280" y="128520"/>
              <a:chExt cx="428760" cy="428760"/>
            </a:xfrm>
          </p:grpSpPr>
          <p:sp>
            <p:nvSpPr>
              <p:cNvPr id="5" name=""/>
              <p:cNvSpPr/>
              <p:nvPr/>
            </p:nvSpPr>
            <p:spPr>
              <a:xfrm>
                <a:off x="3770280" y="1285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823560" y="160200"/>
                <a:ext cx="3236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HandelGothic BT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4194000" y="128520"/>
              <a:ext cx="428760" cy="428760"/>
              <a:chOff x="4194000" y="128520"/>
              <a:chExt cx="428760" cy="428760"/>
            </a:xfrm>
          </p:grpSpPr>
          <p:sp>
            <p:nvSpPr>
              <p:cNvPr id="8" name=""/>
              <p:cNvSpPr/>
              <p:nvPr/>
            </p:nvSpPr>
            <p:spPr>
              <a:xfrm>
                <a:off x="4194000" y="1285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27840" y="160200"/>
                <a:ext cx="36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HandelGothic BT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4618080" y="128520"/>
              <a:ext cx="428760" cy="428760"/>
              <a:chOff x="4618080" y="128520"/>
              <a:chExt cx="428760" cy="428760"/>
            </a:xfrm>
          </p:grpSpPr>
          <p:sp>
            <p:nvSpPr>
              <p:cNvPr id="11" name=""/>
              <p:cNvSpPr/>
              <p:nvPr/>
            </p:nvSpPr>
            <p:spPr>
              <a:xfrm>
                <a:off x="4618080" y="1285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655880" y="160200"/>
                <a:ext cx="3052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HandelGothic BT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037120" y="128520"/>
              <a:ext cx="428760" cy="428760"/>
              <a:chOff x="5037120" y="128520"/>
              <a:chExt cx="428760" cy="428760"/>
            </a:xfrm>
          </p:grpSpPr>
          <p:sp>
            <p:nvSpPr>
              <p:cNvPr id="14" name=""/>
              <p:cNvSpPr/>
              <p:nvPr/>
            </p:nvSpPr>
            <p:spPr>
              <a:xfrm>
                <a:off x="5037120" y="1285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081040" y="160200"/>
                <a:ext cx="331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HandelGothic BT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5460840" y="128520"/>
              <a:ext cx="428760" cy="428760"/>
              <a:chOff x="5460840" y="128520"/>
              <a:chExt cx="428760" cy="428760"/>
            </a:xfrm>
          </p:grpSpPr>
          <p:sp>
            <p:nvSpPr>
              <p:cNvPr id="17" name=""/>
              <p:cNvSpPr/>
              <p:nvPr/>
            </p:nvSpPr>
            <p:spPr>
              <a:xfrm>
                <a:off x="5460840" y="128520"/>
                <a:ext cx="428760" cy="428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510160" y="160200"/>
                <a:ext cx="326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HandelGothic BT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5884920" y="128520"/>
              <a:ext cx="318960" cy="428760"/>
              <a:chOff x="5884920" y="128520"/>
              <a:chExt cx="318960" cy="428760"/>
            </a:xfrm>
          </p:grpSpPr>
          <p:sp>
            <p:nvSpPr>
              <p:cNvPr id="20" name=""/>
              <p:cNvSpPr/>
              <p:nvPr/>
            </p:nvSpPr>
            <p:spPr>
              <a:xfrm>
                <a:off x="5884920" y="128520"/>
                <a:ext cx="318960" cy="428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5912280" y="160200"/>
                <a:ext cx="262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HandelGothic BT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6194520" y="128520"/>
              <a:ext cx="428400" cy="428760"/>
              <a:chOff x="6194520" y="128520"/>
              <a:chExt cx="428400" cy="428760"/>
            </a:xfrm>
          </p:grpSpPr>
          <p:sp>
            <p:nvSpPr>
              <p:cNvPr id="23" name=""/>
              <p:cNvSpPr/>
              <p:nvPr/>
            </p:nvSpPr>
            <p:spPr>
              <a:xfrm>
                <a:off x="6194520" y="128520"/>
                <a:ext cx="428400" cy="428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6252840" y="160200"/>
                <a:ext cx="309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HandelGothic BT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" name=""/>
          <p:cNvSpPr/>
          <p:nvPr/>
        </p:nvSpPr>
        <p:spPr>
          <a:xfrm>
            <a:off x="0" y="9629640"/>
            <a:ext cx="6856560" cy="2192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56240" y="9628200"/>
            <a:ext cx="279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HandelGothic BT"/>
              </a:rPr>
              <a:t>Un jeu de rôles de PHILIPPE TESS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17720" y="1155600"/>
            <a:ext cx="4863960" cy="16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37080" y="1157400"/>
            <a:ext cx="1378080" cy="206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19160" y="1157400"/>
            <a:ext cx="901800" cy="206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5400" y="1152360"/>
            <a:ext cx="1724040" cy="31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5400" y="1154160"/>
            <a:ext cx="1724040" cy="199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5000" y="4340160"/>
            <a:ext cx="2506680" cy="200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5240" y="579600"/>
            <a:ext cx="6451560" cy="427320"/>
            <a:chOff x="165240" y="579600"/>
            <a:chExt cx="6451560" cy="427320"/>
          </a:xfrm>
        </p:grpSpPr>
        <p:sp>
          <p:nvSpPr>
            <p:cNvPr id="70" name=""/>
            <p:cNvSpPr/>
            <p:nvPr/>
          </p:nvSpPr>
          <p:spPr>
            <a:xfrm>
              <a:off x="165240" y="579600"/>
              <a:ext cx="6451560" cy="42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71468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ID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ILL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X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1468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UNAUT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EVEUX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EUX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AU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228600" y="779400"/>
              <a:ext cx="6324480" cy="182520"/>
              <a:chOff x="228600" y="779400"/>
              <a:chExt cx="6324480" cy="1825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" y="961920"/>
                <a:ext cx="632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600" y="779400"/>
                <a:ext cx="632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1924200" y="1155600"/>
            <a:ext cx="48448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238400"/>
                <a:tab algn="l" pos="2197080"/>
                <a:tab algn="l" pos="257796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 Black"/>
              </a:rPr>
              <a:t>Radiations</a:t>
            </a:r>
            <a:r>
              <a:rPr b="1" lang="fr-FR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 Black"/>
              </a:rPr>
              <a:t>Macro-domm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238400"/>
                <a:tab algn="l" pos="2197080"/>
                <a:tab algn="l" pos="257796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238400"/>
                <a:tab algn="l" pos="2197080"/>
                <a:tab algn="l" pos="257796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EUIL D’INCONSCIENC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238400"/>
                <a:tab algn="l" pos="2197080"/>
                <a:tab algn="l" pos="257796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238400"/>
                <a:tab algn="l" pos="2197080"/>
                <a:tab algn="l" pos="257796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EUIL PHYS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238400"/>
                <a:tab algn="l" pos="2197080"/>
                <a:tab algn="l" pos="257796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238400"/>
                <a:tab algn="l" pos="2197080"/>
                <a:tab algn="l" pos="257796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EUIL BLESSURES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EGERES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238400"/>
                <a:tab algn="l" pos="2197080"/>
                <a:tab algn="l" pos="257796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RAVES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238400"/>
                <a:tab algn="l" pos="2197080"/>
                <a:tab algn="l" pos="257796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RITIQUES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238400"/>
                <a:tab algn="l" pos="2197080"/>
                <a:tab algn="l" pos="257796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ATALES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238400"/>
                <a:tab algn="l" pos="2197080"/>
                <a:tab algn="l" pos="257796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238400"/>
                <a:tab algn="l" pos="2197080"/>
                <a:tab algn="l" pos="257796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EUIL DE MORT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962000" y="1370160"/>
            <a:ext cx="4762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74960" y="1604880"/>
            <a:ext cx="2755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4320" y="1859040"/>
            <a:ext cx="2755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13000" y="2089080"/>
            <a:ext cx="15177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2211480"/>
            <a:ext cx="152388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6880" y="2340000"/>
            <a:ext cx="152388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6880" y="2470320"/>
            <a:ext cx="152388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74960" y="2706840"/>
            <a:ext cx="27558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730760" y="1473120"/>
            <a:ext cx="2106720" cy="1211400"/>
            <a:chOff x="4730760" y="1473120"/>
            <a:chExt cx="2106720" cy="1211400"/>
          </a:xfrm>
        </p:grpSpPr>
        <p:grpSp>
          <p:nvGrpSpPr>
            <p:cNvPr id="84" name=""/>
            <p:cNvGrpSpPr/>
            <p:nvPr/>
          </p:nvGrpSpPr>
          <p:grpSpPr>
            <a:xfrm>
              <a:off x="4730760" y="1954080"/>
              <a:ext cx="1968480" cy="730440"/>
              <a:chOff x="4730760" y="1954080"/>
              <a:chExt cx="1968480" cy="7304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4730760" y="1954080"/>
                <a:ext cx="1968480" cy="473040"/>
                <a:chOff x="4730760" y="1954080"/>
                <a:chExt cx="1968480" cy="47304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4730760" y="1954080"/>
                  <a:ext cx="1968480" cy="111240"/>
                  <a:chOff x="4730760" y="1954080"/>
                  <a:chExt cx="1968480" cy="1112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>
                    <a:off x="4730760" y="1954080"/>
                    <a:ext cx="177840" cy="1112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4986360" y="1954080"/>
                    <a:ext cx="177840" cy="1112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5241960" y="1954080"/>
                    <a:ext cx="177840" cy="1112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5499000" y="1954080"/>
                    <a:ext cx="176400" cy="1112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5754600" y="1954080"/>
                    <a:ext cx="176400" cy="1112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6010200" y="1954080"/>
                    <a:ext cx="177840" cy="1112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6265800" y="1954080"/>
                    <a:ext cx="177840" cy="1112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6521400" y="1954080"/>
                    <a:ext cx="177840" cy="1112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4859280" y="2077920"/>
                  <a:ext cx="1712880" cy="111240"/>
                  <a:chOff x="4859280" y="2077920"/>
                  <a:chExt cx="1712880" cy="1112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4859280" y="2077920"/>
                    <a:ext cx="177840" cy="1112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5372280" y="2077920"/>
                    <a:ext cx="176040" cy="1112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5883120" y="2077920"/>
                    <a:ext cx="177840" cy="1112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394320" y="2077920"/>
                    <a:ext cx="177840" cy="1112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5114880" y="2187720"/>
                  <a:ext cx="1201680" cy="110880"/>
                  <a:chOff x="5114880" y="2187720"/>
                  <a:chExt cx="1201680" cy="11088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5114880" y="2187720"/>
                    <a:ext cx="177840" cy="110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138720" y="2187720"/>
                    <a:ext cx="177840" cy="110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" name=""/>
                <p:cNvSpPr/>
                <p:nvPr/>
              </p:nvSpPr>
              <p:spPr>
                <a:xfrm>
                  <a:off x="5627520" y="2316240"/>
                  <a:ext cx="176400" cy="1108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5627520" y="2558880"/>
                <a:ext cx="176400" cy="12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788000" y="1473120"/>
              <a:ext cx="2049480" cy="282600"/>
              <a:chOff x="4788000" y="1473120"/>
              <a:chExt cx="2049480" cy="2826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4788000" y="1473120"/>
                <a:ext cx="1968480" cy="120600"/>
                <a:chOff x="4788000" y="1473120"/>
                <a:chExt cx="1968480" cy="1206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788000" y="1473120"/>
                  <a:ext cx="177840" cy="120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043600" y="1473120"/>
                  <a:ext cx="177840" cy="120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299200" y="1473120"/>
                  <a:ext cx="177840" cy="120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556240" y="1473120"/>
                  <a:ext cx="176400" cy="120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811840" y="1473120"/>
                  <a:ext cx="176040" cy="120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067440" y="1473120"/>
                  <a:ext cx="177840" cy="120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323040" y="1473120"/>
                  <a:ext cx="177840" cy="120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578640" y="1473120"/>
                  <a:ext cx="177840" cy="1206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910040" y="1571760"/>
                <a:ext cx="1927440" cy="183960"/>
                <a:chOff x="4910040" y="1571760"/>
                <a:chExt cx="1927440" cy="1839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910040" y="1571760"/>
                  <a:ext cx="41436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-5%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160960" y="1571760"/>
                  <a:ext cx="4158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-10%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421240" y="1571760"/>
                  <a:ext cx="41436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-20%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694480" y="1571760"/>
                  <a:ext cx="4158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-40%’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35680" y="1571760"/>
                  <a:ext cx="4158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-60%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88040" y="1571760"/>
                  <a:ext cx="4032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-80%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500880" y="1571760"/>
                  <a:ext cx="3366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K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3" name=""/>
          <p:cNvGrpSpPr/>
          <p:nvPr/>
        </p:nvGrpSpPr>
        <p:grpSpPr>
          <a:xfrm>
            <a:off x="4784760" y="2157480"/>
            <a:ext cx="1887480" cy="326880"/>
            <a:chOff x="4784760" y="2157480"/>
            <a:chExt cx="1887480" cy="326880"/>
          </a:xfrm>
        </p:grpSpPr>
        <p:sp>
          <p:nvSpPr>
            <p:cNvPr id="124" name=""/>
            <p:cNvSpPr/>
            <p:nvPr/>
          </p:nvSpPr>
          <p:spPr>
            <a:xfrm>
              <a:off x="4784760" y="2157480"/>
              <a:ext cx="36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-5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80120" y="2157480"/>
              <a:ext cx="36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-1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89520" y="2157480"/>
              <a:ext cx="36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-2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08640" y="2157480"/>
              <a:ext cx="36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-4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27760" y="2300400"/>
              <a:ext cx="3632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-6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60960" y="2300400"/>
              <a:ext cx="363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-8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01520" y="1155600"/>
            <a:ext cx="1714680" cy="3064680"/>
            <a:chOff x="101520" y="1155600"/>
            <a:chExt cx="1714680" cy="3064680"/>
          </a:xfrm>
        </p:grpSpPr>
        <p:sp>
          <p:nvSpPr>
            <p:cNvPr id="131" name=""/>
            <p:cNvSpPr/>
            <p:nvPr/>
          </p:nvSpPr>
          <p:spPr>
            <a:xfrm>
              <a:off x="101520" y="1155600"/>
              <a:ext cx="1714680" cy="30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Black"/>
                </a:rPr>
                <a:t>Attrib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gilité :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ce :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ésistance :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abarit :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pidité :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arisme :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lonté :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ect :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ng-froid :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tinct :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éaction 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erception 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ance 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onus corps à corps 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étence souffle 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étence vites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étence lutte 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itesse auto 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52560"/>
                  <a:tab algn="l" pos="1333440"/>
                  <a:tab algn="r" pos="3429000"/>
                  <a:tab algn="r" pos="4572000"/>
                  <a:tab algn="r" pos="581040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oids portable auto 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27080" y="1486080"/>
              <a:ext cx="1663560" cy="2714400"/>
              <a:chOff x="127080" y="1486080"/>
              <a:chExt cx="1663560" cy="2714400"/>
            </a:xfrm>
          </p:grpSpPr>
          <p:sp>
            <p:nvSpPr>
              <p:cNvPr id="133" name=""/>
              <p:cNvSpPr/>
              <p:nvPr/>
            </p:nvSpPr>
            <p:spPr>
              <a:xfrm>
                <a:off x="127080" y="148608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7080" y="162072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7080" y="175104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7080" y="189216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27080" y="203040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7080" y="216540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7080" y="230040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7080" y="243540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7080" y="257184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27080" y="271296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7080" y="297972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27080" y="311940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7080" y="326232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7080" y="352260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7080" y="365616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7080" y="379872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7080" y="393552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27080" y="407196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" y="4200480"/>
                <a:ext cx="1663560" cy="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>
            <a:off x="28440" y="4317840"/>
            <a:ext cx="3409920" cy="50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andelGothic BT"/>
              </a:rPr>
              <a:t>Tal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iv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o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utte (Gab+Ag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aut (For, Ag, -Gab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Jet de poids (For, Ag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cquisition de matériel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crobatie (Ag,Inst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nalyse de sensation emphatiques (Inst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rmes blanches (int, Sg-Fd,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rmes d’épaule (int, Ag, Sg-Fd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rmes de jet (Int, Ag, Sg-Fd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rmes lourdes (For, Ag, Gab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rmes de poing (Int, Ag, Sg-Fd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rmes de trait (Int, Ag, sg-Fd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rmures (int,Ag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Spécialité : Armure de plongé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.T.E. </a:t>
            </a:r>
            <a:r>
              <a:rPr b="0" i="1" lang="fr-FR" sz="800" spc="-1" strike="noStrike">
                <a:solidFill>
                  <a:srgbClr val="000000"/>
                </a:solidFill>
                <a:latin typeface="Arial"/>
              </a:rPr>
              <a:t>(Assist. Tir Auto.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(Int, Ag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.T.M. </a:t>
            </a:r>
            <a:r>
              <a:rPr b="0" i="1" lang="fr-FR" sz="800" spc="-1" strike="noStrike">
                <a:solidFill>
                  <a:srgbClr val="000000"/>
                </a:solidFill>
                <a:latin typeface="Arial"/>
              </a:rPr>
              <a:t>(Assist. Tir Méca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(Int, Ag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Bureaucratie (Int)théorie/(Cha,Int) pratiqu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harme (Cha, int, Vol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mmandement (Cha, Int, Vol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naissance générale (Int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Spécialité : Communauté d’origine 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naissance du milieu naturel (int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naissance du milieu social (Int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Spécialité : Communauté d’origine 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rps à corps (int, Sg-Fd, inst, For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réation de faux (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ryptographie (Int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uisine (Int, Ag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fense (Ag, Rap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42080" y="9640800"/>
            <a:ext cx="12016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andelGothic BT"/>
              </a:rPr>
              <a:t>Page : </a:t>
            </a:r>
            <a:fld id="{886CF916-AAB4-4147-B0BA-2784D6805604}" type="slidenum">
              <a:rPr b="0" lang="en-US" sz="1000" spc="-1" strike="noStrike">
                <a:solidFill>
                  <a:srgbClr val="000000"/>
                </a:solidFill>
                <a:latin typeface="HandelGothic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5200" y="128520"/>
            <a:ext cx="242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ndelGothic BT"/>
              </a:rPr>
              <a:t>Fiche de personn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62480" y="4317840"/>
            <a:ext cx="3384360" cy="508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andelGothic BT"/>
              </a:rPr>
              <a:t>Tal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iv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o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guisement (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molition (int, Ag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iplomatie (Int, Cha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iscrétion (Ag, Int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vasion (Ag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scalade (Ag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stimation de qualité (int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stimation de valeur (Int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estion (Int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Histoire (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Spécialité : Communauté d’origin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Hybride (NA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nformatiqu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nterrogation (Int, Inst, Cha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Jeu (Int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angage écrit (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Spécialité : Origine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angage parlé (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Spécialité : Origin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angage des signes (Int, Ag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ecture sur les lèvres (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ecture sonar (Int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Orientation (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égociation (Cha, Inst, 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ersuasion (Cha, Inst, 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ilotage de chasseur (Ag, 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ilotage de croiseur (Inst, 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2000160"/>
                <a:tab algn="l" pos="2286000"/>
                <a:tab algn="l" pos="2571840"/>
                <a:tab algn="l" pos="27622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ilotage de scooters marins (ag, Inst, 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17720" y="2787480"/>
            <a:ext cx="4873680" cy="149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19160" y="2787480"/>
            <a:ext cx="997200" cy="206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17720" y="2787480"/>
            <a:ext cx="485136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ctr" pos="1333440"/>
                <a:tab algn="ctr" pos="2095560"/>
                <a:tab algn="ctr" pos="2857680"/>
                <a:tab algn="ctr" pos="400068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Renommé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unaut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mmunaut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mmunaut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mmunauté AUTRES 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ctr" pos="1333440"/>
                <a:tab algn="ctr" pos="2095560"/>
                <a:tab algn="ctr" pos="2857680"/>
                <a:tab algn="ctr" pos="400068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’ORGI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UTR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NEMI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ctr" pos="1333440"/>
                <a:tab algn="ctr" pos="2095560"/>
                <a:tab algn="ctr" pos="2857680"/>
                <a:tab algn="ctr" pos="400068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ELEBR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ctr" pos="1333440"/>
                <a:tab algn="ctr" pos="2095560"/>
                <a:tab algn="ctr" pos="2857680"/>
                <a:tab algn="ctr" pos="400068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REPU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ctr" pos="1333440"/>
                <a:tab algn="ctr" pos="2095560"/>
                <a:tab algn="ctr" pos="2857680"/>
                <a:tab algn="ctr" pos="400068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INFLUENC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um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ctr" pos="1333440"/>
                <a:tab algn="ctr" pos="2095560"/>
                <a:tab algn="ctr" pos="2857680"/>
                <a:tab algn="ctr" pos="400068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Re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315040" y="3092040"/>
            <a:ext cx="1400040" cy="3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0" y="5086440"/>
            <a:ext cx="333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240" y="4724280"/>
            <a:ext cx="3333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4160" y="4724280"/>
            <a:ext cx="3333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54360" y="3606840"/>
            <a:ext cx="485136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ctr" pos="1333440"/>
                <a:tab algn="ctr" pos="2095560"/>
                <a:tab algn="ctr" pos="2857680"/>
                <a:tab algn="ctr" pos="400068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mmunauté AUTRES 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ctr" pos="1333440"/>
                <a:tab algn="ctr" pos="2095560"/>
                <a:tab algn="ctr" pos="2857680"/>
                <a:tab algn="ctr" pos="400068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ELEBR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ctr" pos="1333440"/>
                <a:tab algn="ctr" pos="2095560"/>
                <a:tab algn="ctr" pos="2857680"/>
                <a:tab algn="ctr" pos="400068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REPU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ctr" pos="1333440"/>
                <a:tab algn="ctr" pos="2095560"/>
                <a:tab algn="ctr" pos="2857680"/>
                <a:tab algn="ctr" pos="400068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INFLUENCE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um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6720"/>
                <a:tab algn="ctr" pos="1333440"/>
                <a:tab algn="ctr" pos="2095560"/>
                <a:tab algn="ctr" pos="2857680"/>
                <a:tab algn="ctr" pos="4000680"/>
                <a:tab algn="r" pos="4572000"/>
                <a:tab algn="r" pos="581040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Re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23920" y="3218040"/>
            <a:ext cx="470088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23920" y="3341520"/>
            <a:ext cx="470088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23920" y="3457440"/>
            <a:ext cx="470088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81280" y="3584160"/>
            <a:ext cx="4033800" cy="4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14560" y="3890880"/>
            <a:ext cx="470052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14560" y="4008600"/>
            <a:ext cx="470052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14560" y="4124160"/>
            <a:ext cx="470052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681280" y="4250880"/>
            <a:ext cx="4033800" cy="4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14560" y="3770280"/>
            <a:ext cx="470052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842080" y="9621720"/>
            <a:ext cx="12016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andelGothic BT"/>
              </a:rPr>
              <a:t>Page : </a:t>
            </a:r>
            <a:fld id="{20059457-028B-4AEB-8E69-5A6D568598F5}" type="slidenum">
              <a:rPr b="0" lang="en-US" sz="1000" spc="-1" strike="noStrike">
                <a:solidFill>
                  <a:srgbClr val="000000"/>
                </a:solidFill>
                <a:latin typeface="HandelGothic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5200" y="128520"/>
            <a:ext cx="242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ndelGothic BT"/>
              </a:rPr>
              <a:t>Fiche de personn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2440" y="7016760"/>
            <a:ext cx="6680160" cy="2439360"/>
            <a:chOff x="82440" y="7016760"/>
            <a:chExt cx="6680160" cy="2439360"/>
          </a:xfrm>
        </p:grpSpPr>
        <p:sp>
          <p:nvSpPr>
            <p:cNvPr id="176" name=""/>
            <p:cNvSpPr/>
            <p:nvPr/>
          </p:nvSpPr>
          <p:spPr>
            <a:xfrm>
              <a:off x="82440" y="7016760"/>
              <a:ext cx="6680160" cy="243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HandelGothic BT"/>
                </a:rPr>
                <a:t>ARMES / MUNITIONS / DIV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Nom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Niv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é Physique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Dé Chocs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Cadence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Chargeur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Balle/Chg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Portée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047600"/>
                  <a:tab algn="l" pos="1714680"/>
                  <a:tab algn="l" pos="2286000"/>
                  <a:tab algn="l" pos="2857680"/>
                  <a:tab algn="l" pos="3429000"/>
                  <a:tab algn="l" pos="4095720"/>
                  <a:tab algn="l" pos="4191120"/>
                  <a:tab algn="l" pos="4381560"/>
                  <a:tab algn="l" pos="46674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1760" y="7477200"/>
              <a:ext cx="657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892080" y="73627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58840" y="73627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73080" y="73627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25680" y="73627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87640" y="73627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59320" y="73627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73627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73627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440" y="568440"/>
            <a:ext cx="3573720" cy="54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andelGothic BT"/>
              </a:rPr>
              <a:t>Tal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Niv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o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ilotage de véhicules ariens (ag, Inst, 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ilotage de véhicules fond marin (ag, Inst, Int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ilotage de véhicules souterrains (Ag,Inst,Int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ilotage de véhicules terrestre (ag, Inst, Int)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emiers soins (Ag, Inst, 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ospection (Inst, In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spiration Fluide (Res, vol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cience (Int) théorie / (Inst, Ag) Pratique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Spécialité :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Aquacultur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Archéologi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Botaniqu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Chimi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Chirurgi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Cybertechnologi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Elevag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Energi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Extraction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Génétiqu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Géophysiqu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Informatiqu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Mécaniqu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Médecin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Neurologi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Psychologi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Psychologie animal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Robotiqu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Sociologi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Vétérinair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Zoologie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ystème de sécurité (Int, Ag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tratégie (Int, 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urvie (Inst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ctique (Int, Inst, Cha, Vol)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857160"/>
                <a:tab algn="l" pos="2095560"/>
                <a:tab algn="l" pos="2476440"/>
                <a:tab algn="l" pos="2762280"/>
                <a:tab algn="l" pos="2952720"/>
                <a:tab algn="l" pos="32385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95760" y="568440"/>
            <a:ext cx="3048120" cy="14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HandelGothic BT"/>
              </a:rPr>
              <a:t>ARGENT / OBJETS DE TR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19440" y="4873680"/>
            <a:ext cx="3063960" cy="21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HandelGothic BT"/>
              </a:rPr>
              <a:t>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HandelGothic BT"/>
              </a:rPr>
              <a:t>EQUIP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V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78120" y="5221440"/>
            <a:ext cx="2946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792680" y="5141880"/>
            <a:ext cx="685800" cy="1909440"/>
            <a:chOff x="4792680" y="5141880"/>
            <a:chExt cx="685800" cy="1909440"/>
          </a:xfrm>
        </p:grpSpPr>
        <p:sp>
          <p:nvSpPr>
            <p:cNvPr id="191" name=""/>
            <p:cNvSpPr/>
            <p:nvPr/>
          </p:nvSpPr>
          <p:spPr>
            <a:xfrm>
              <a:off x="4792680" y="5141880"/>
              <a:ext cx="0" cy="19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87240" y="5141880"/>
              <a:ext cx="0" cy="19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8480" y="5141880"/>
              <a:ext cx="0" cy="19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695760" y="2070000"/>
            <a:ext cx="3054240" cy="18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HandelGothic BT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andelGothic BT"/>
              </a:rPr>
              <a:t>(Fertilité/Relations/Alliés/Ennemis/Famil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95760" y="3927600"/>
            <a:ext cx="3083040" cy="93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HandelGothic BT"/>
              </a:rPr>
              <a:t>MU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619280"/>
                <a:tab algn="l" pos="18097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480" y="990720"/>
            <a:ext cx="3485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4760" y="552600"/>
            <a:ext cx="6657840" cy="90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5200" y="128520"/>
            <a:ext cx="242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ndelGothic BT"/>
              </a:rPr>
              <a:t>Fiche de personn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4760" y="552600"/>
            <a:ext cx="981000" cy="2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HandelGothic BT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42080" y="9621720"/>
            <a:ext cx="1201680" cy="2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andelGothic BT"/>
              </a:rPr>
              <a:t>Page : </a:t>
            </a:r>
            <a:fld id="{641165EB-D68E-480B-A5E2-1A4A2DD99435}" type="slidenum">
              <a:rPr b="0" lang="en-US" sz="1000" spc="-1" strike="noStrike">
                <a:solidFill>
                  <a:srgbClr val="000000"/>
                </a:solidFill>
                <a:latin typeface="HandelGothic B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448160" y="1670040"/>
            <a:ext cx="2124000" cy="14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5240" y="579600"/>
            <a:ext cx="6451560" cy="4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577800"/>
                <a:tab algn="r" pos="2193840"/>
                <a:tab algn="r" pos="3997440"/>
                <a:tab algn="r" pos="58165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ID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ONDEU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QUIPEMENT / MA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77800"/>
                <a:tab algn="r" pos="2193840"/>
                <a:tab algn="r" pos="3997440"/>
                <a:tab algn="r" pos="58165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BARI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CAE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77800"/>
                <a:tab algn="r" pos="2193840"/>
                <a:tab algn="r" pos="3997440"/>
                <a:tab algn="r" pos="58165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TES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LER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GR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" y="757080"/>
            <a:ext cx="6324480" cy="258840"/>
            <a:chOff x="228600" y="757080"/>
            <a:chExt cx="6324480" cy="258840"/>
          </a:xfrm>
        </p:grpSpPr>
        <p:sp>
          <p:nvSpPr>
            <p:cNvPr id="204" name=""/>
            <p:cNvSpPr/>
            <p:nvPr/>
          </p:nvSpPr>
          <p:spPr>
            <a:xfrm>
              <a:off x="228600" y="890640"/>
              <a:ext cx="632448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" y="757080"/>
              <a:ext cx="632448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" y="1015920"/>
              <a:ext cx="632448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52280" y="1155600"/>
            <a:ext cx="64771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2476440"/>
                <a:tab algn="r" pos="4191120"/>
                <a:tab algn="r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ORDINATEU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CURIT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ÔLE / MAX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PACI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2476440"/>
                <a:tab algn="r" pos="4191120"/>
                <a:tab algn="r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GRAMME D’ATTAQU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447920" y="1324080"/>
            <a:ext cx="5048280" cy="133200"/>
            <a:chOff x="1447920" y="1324080"/>
            <a:chExt cx="5048280" cy="133200"/>
          </a:xfrm>
        </p:grpSpPr>
        <p:sp>
          <p:nvSpPr>
            <p:cNvPr id="209" name=""/>
            <p:cNvSpPr/>
            <p:nvPr/>
          </p:nvSpPr>
          <p:spPr>
            <a:xfrm>
              <a:off x="1447920" y="1324080"/>
              <a:ext cx="504828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47920" y="1457280"/>
              <a:ext cx="504828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732200" y="1693800"/>
            <a:ext cx="1762200" cy="158112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4822200" y="1685880"/>
            <a:ext cx="1387080" cy="1144440"/>
            <a:chOff x="4822200" y="1685880"/>
            <a:chExt cx="1387080" cy="1144440"/>
          </a:xfrm>
        </p:grpSpPr>
        <p:sp>
          <p:nvSpPr>
            <p:cNvPr id="213" name=""/>
            <p:cNvSpPr/>
            <p:nvPr/>
          </p:nvSpPr>
          <p:spPr>
            <a:xfrm>
              <a:off x="5408280" y="1685880"/>
              <a:ext cx="300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16040" y="1862280"/>
              <a:ext cx="300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33560" y="1906560"/>
              <a:ext cx="300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08320" y="1919160"/>
              <a:ext cx="300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2200" y="1998720"/>
              <a:ext cx="300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96920" y="2616120"/>
              <a:ext cx="300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63760" y="2427120"/>
              <a:ext cx="300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52280" y="1670040"/>
            <a:ext cx="198144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LINDAGE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UIL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CLE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ES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6680" y="1670040"/>
            <a:ext cx="198144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LINDAGE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UIL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CLE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ES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52280" y="2717640"/>
            <a:ext cx="4065840" cy="961920"/>
            <a:chOff x="152280" y="2717640"/>
            <a:chExt cx="4065840" cy="961920"/>
          </a:xfrm>
        </p:grpSpPr>
        <p:sp>
          <p:nvSpPr>
            <p:cNvPr id="223" name=""/>
            <p:cNvSpPr/>
            <p:nvPr/>
          </p:nvSpPr>
          <p:spPr>
            <a:xfrm>
              <a:off x="152280" y="2717640"/>
              <a:ext cx="1981440" cy="96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Z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INDAGE :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UIL :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ERCLE 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ES 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36680" y="2717640"/>
              <a:ext cx="1981440" cy="96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Z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INDAGE :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UIL :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ERCLE 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ES 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52280" y="3765600"/>
            <a:ext cx="4065840" cy="961920"/>
            <a:chOff x="152280" y="3765600"/>
            <a:chExt cx="4065840" cy="961920"/>
          </a:xfrm>
        </p:grpSpPr>
        <p:sp>
          <p:nvSpPr>
            <p:cNvPr id="226" name=""/>
            <p:cNvSpPr/>
            <p:nvPr/>
          </p:nvSpPr>
          <p:spPr>
            <a:xfrm>
              <a:off x="152280" y="3765600"/>
              <a:ext cx="1981440" cy="96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Z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INDAGE :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UIL :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ERCLE 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ES 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36680" y="3765600"/>
              <a:ext cx="1981440" cy="96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Z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INDAGE :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UIL :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ERCLE 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ES 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193760" y="4829040"/>
            <a:ext cx="198108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LINDAGE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UIL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CLE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ES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46720" y="3200400"/>
            <a:ext cx="2125440" cy="32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RM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52280" y="5956200"/>
            <a:ext cx="2808360" cy="527040"/>
            <a:chOff x="152280" y="5956200"/>
            <a:chExt cx="2808360" cy="527040"/>
          </a:xfrm>
        </p:grpSpPr>
        <p:sp>
          <p:nvSpPr>
            <p:cNvPr id="231" name=""/>
            <p:cNvSpPr/>
            <p:nvPr/>
          </p:nvSpPr>
          <p:spPr>
            <a:xfrm>
              <a:off x="152280" y="5956200"/>
              <a:ext cx="2808360" cy="52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ctr" pos="190440"/>
                  <a:tab algn="ctr" pos="571680"/>
                  <a:tab algn="ctr" pos="952560"/>
                  <a:tab algn="ctr" pos="1333440"/>
                  <a:tab algn="ctr" pos="1714680"/>
                  <a:tab algn="ctr" pos="2095560"/>
                  <a:tab algn="ctr" pos="247644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LOCALIS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190440"/>
                  <a:tab algn="ctr" pos="571680"/>
                  <a:tab algn="ctr" pos="952560"/>
                  <a:tab algn="ctr" pos="1333440"/>
                  <a:tab algn="ctr" pos="1714680"/>
                  <a:tab algn="ctr" pos="2095560"/>
                  <a:tab algn="ctr" pos="247644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3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4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5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6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Black"/>
                </a:rPr>
                <a:t>Z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190440"/>
                  <a:tab algn="ctr" pos="571680"/>
                  <a:tab algn="ctr" pos="952560"/>
                  <a:tab algn="ctr" pos="1333440"/>
                  <a:tab algn="ctr" pos="1714680"/>
                  <a:tab algn="ctr" pos="2095560"/>
                  <a:tab algn="ctr" pos="247644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1-04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5-28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9-5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3-64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-76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7-88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9-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2120" y="6292800"/>
              <a:ext cx="265932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52280" y="6562800"/>
            <a:ext cx="6419880" cy="29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SYSTE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4040" y="128520"/>
            <a:ext cx="180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ndelGothic BT"/>
              </a:rPr>
              <a:t>Fiche d’Arm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36680" y="167004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167004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36680" y="271764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271764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36680" y="376560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376560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93760" y="4829040"/>
            <a:ext cx="198108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448160" y="1650960"/>
            <a:ext cx="2124000" cy="15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5240" y="579600"/>
            <a:ext cx="6451560" cy="4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577800"/>
                <a:tab algn="r" pos="2193840"/>
                <a:tab algn="r" pos="3997440"/>
                <a:tab algn="r" pos="55245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ID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ONDEU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UVER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77800"/>
                <a:tab algn="r" pos="2193840"/>
                <a:tab algn="r" pos="3997440"/>
                <a:tab algn="r" pos="55245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QUIPEMENT / MAX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77800"/>
                <a:tab algn="r" pos="2193840"/>
                <a:tab algn="r" pos="3997440"/>
                <a:tab algn="r" pos="55245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TES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LER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GR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757080"/>
            <a:ext cx="6324480" cy="265320"/>
            <a:chOff x="228600" y="757080"/>
            <a:chExt cx="6324480" cy="265320"/>
          </a:xfrm>
        </p:grpSpPr>
        <p:sp>
          <p:nvSpPr>
            <p:cNvPr id="245" name=""/>
            <p:cNvSpPr/>
            <p:nvPr/>
          </p:nvSpPr>
          <p:spPr>
            <a:xfrm>
              <a:off x="228600" y="893880"/>
              <a:ext cx="63244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" y="757080"/>
              <a:ext cx="63244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600" y="1022400"/>
              <a:ext cx="63244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65240" y="1168560"/>
            <a:ext cx="6451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2476440"/>
                <a:tab algn="r" pos="4191120"/>
                <a:tab algn="r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ORDINATEUR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CURIT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ÔLE / MAX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PACI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2476440"/>
                <a:tab algn="r" pos="4191120"/>
                <a:tab algn="r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GRAMME D’ATTAQU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447920" y="1346040"/>
            <a:ext cx="5048280" cy="120960"/>
            <a:chOff x="1447920" y="1346040"/>
            <a:chExt cx="5048280" cy="120960"/>
          </a:xfrm>
        </p:grpSpPr>
        <p:sp>
          <p:nvSpPr>
            <p:cNvPr id="250" name=""/>
            <p:cNvSpPr/>
            <p:nvPr/>
          </p:nvSpPr>
          <p:spPr>
            <a:xfrm>
              <a:off x="1447920" y="1346040"/>
              <a:ext cx="50482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47920" y="1467000"/>
              <a:ext cx="50482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52280" y="1650960"/>
            <a:ext cx="4065840" cy="4120920"/>
            <a:chOff x="152280" y="1650960"/>
            <a:chExt cx="4065840" cy="4120920"/>
          </a:xfrm>
        </p:grpSpPr>
        <p:grpSp>
          <p:nvGrpSpPr>
            <p:cNvPr id="253" name=""/>
            <p:cNvGrpSpPr/>
            <p:nvPr/>
          </p:nvGrpSpPr>
          <p:grpSpPr>
            <a:xfrm>
              <a:off x="152280" y="1650960"/>
              <a:ext cx="4065840" cy="961920"/>
              <a:chOff x="152280" y="1650960"/>
              <a:chExt cx="4065840" cy="961920"/>
            </a:xfrm>
          </p:grpSpPr>
          <p:sp>
            <p:nvSpPr>
              <p:cNvPr id="254" name=""/>
              <p:cNvSpPr/>
              <p:nvPr/>
            </p:nvSpPr>
            <p:spPr>
              <a:xfrm>
                <a:off x="152280" y="1650960"/>
                <a:ext cx="1981440" cy="9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Z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INDAGE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UIL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ERCLE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YSTEMES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236680" y="1650960"/>
                <a:ext cx="1981440" cy="9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Z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INDAGE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UIL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ERCLE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YSTEMES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52280" y="2698920"/>
              <a:ext cx="4065840" cy="961920"/>
              <a:chOff x="152280" y="2698920"/>
              <a:chExt cx="4065840" cy="961920"/>
            </a:xfrm>
          </p:grpSpPr>
          <p:sp>
            <p:nvSpPr>
              <p:cNvPr id="257" name=""/>
              <p:cNvSpPr/>
              <p:nvPr/>
            </p:nvSpPr>
            <p:spPr>
              <a:xfrm>
                <a:off x="152280" y="2698920"/>
                <a:ext cx="1981440" cy="9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Z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INDAGE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UIL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ERCLE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YSTEMES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236680" y="2698920"/>
                <a:ext cx="1981440" cy="9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Z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INDAGE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UIL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ERCLE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YSTEMES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52280" y="3746520"/>
              <a:ext cx="4065840" cy="961920"/>
              <a:chOff x="152280" y="3746520"/>
              <a:chExt cx="4065840" cy="961920"/>
            </a:xfrm>
          </p:grpSpPr>
          <p:sp>
            <p:nvSpPr>
              <p:cNvPr id="260" name=""/>
              <p:cNvSpPr/>
              <p:nvPr/>
            </p:nvSpPr>
            <p:spPr>
              <a:xfrm>
                <a:off x="152280" y="3746520"/>
                <a:ext cx="1981440" cy="9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Z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INDAGE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UIL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ERCLE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YSTEMES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236680" y="3746520"/>
                <a:ext cx="1981440" cy="9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Z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INDAGE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UIL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ERCLE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YSTEMES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193760" y="4809960"/>
              <a:ext cx="1981080" cy="96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Z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INDAGE :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UIL :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ERCLE 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ES 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52280" y="7191360"/>
            <a:ext cx="6419880" cy="22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SYSTE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46720" y="3200400"/>
            <a:ext cx="2125440" cy="388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RM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5904000"/>
            <a:ext cx="4114800" cy="11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LOC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Attaque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1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2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3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4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5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6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1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-1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-3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-5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-7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-9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/ 4 A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1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-1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-5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-9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/ 4 A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RIE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-1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-4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-8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1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-1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-4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-8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RIE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0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-0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9-2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-4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-6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9-8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9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SS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SSO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1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-2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-3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-5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-6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-8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6243480"/>
            <a:ext cx="3962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2240" y="128520"/>
            <a:ext cx="227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ndelGothic BT"/>
              </a:rPr>
              <a:t>Fiche de CHASS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800600" y="1693800"/>
            <a:ext cx="1552680" cy="147024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4756680" y="1739880"/>
            <a:ext cx="1506960" cy="1239480"/>
            <a:chOff x="4756680" y="1739880"/>
            <a:chExt cx="1506960" cy="1239480"/>
          </a:xfrm>
        </p:grpSpPr>
        <p:sp>
          <p:nvSpPr>
            <p:cNvPr id="270" name=""/>
            <p:cNvSpPr/>
            <p:nvPr/>
          </p:nvSpPr>
          <p:spPr>
            <a:xfrm>
              <a:off x="5350320" y="1739880"/>
              <a:ext cx="316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50320" y="2033640"/>
              <a:ext cx="316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161680" y="2332080"/>
              <a:ext cx="698400" cy="229680"/>
              <a:chOff x="5161680" y="2332080"/>
              <a:chExt cx="698400" cy="229680"/>
            </a:xfrm>
          </p:grpSpPr>
          <p:sp>
            <p:nvSpPr>
              <p:cNvPr id="273" name=""/>
              <p:cNvSpPr/>
              <p:nvPr/>
            </p:nvSpPr>
            <p:spPr>
              <a:xfrm>
                <a:off x="5161680" y="2332080"/>
                <a:ext cx="3160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Z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44000" y="2332080"/>
                <a:ext cx="3160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Z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756680" y="2676600"/>
              <a:ext cx="1506960" cy="229680"/>
              <a:chOff x="4756680" y="2676600"/>
              <a:chExt cx="1506960" cy="229680"/>
            </a:xfrm>
          </p:grpSpPr>
          <p:sp>
            <p:nvSpPr>
              <p:cNvPr id="276" name=""/>
              <p:cNvSpPr/>
              <p:nvPr/>
            </p:nvSpPr>
            <p:spPr>
              <a:xfrm>
                <a:off x="4756680" y="2676600"/>
                <a:ext cx="3160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Z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47560" y="2676600"/>
                <a:ext cx="31608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Z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350320" y="2749680"/>
              <a:ext cx="316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236680" y="165096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165096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36680" y="269892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269892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36680" y="374652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374652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93760" y="4809960"/>
            <a:ext cx="198108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46720" y="3200400"/>
            <a:ext cx="2125440" cy="1990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RM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448160" y="1650960"/>
            <a:ext cx="2124000" cy="15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5240" y="579600"/>
            <a:ext cx="6451560" cy="4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577800"/>
                <a:tab algn="r" pos="2193840"/>
                <a:tab algn="r" pos="3997440"/>
                <a:tab algn="r" pos="55245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ID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ONDEU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UVER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77800"/>
                <a:tab algn="r" pos="2193840"/>
                <a:tab algn="r" pos="3997440"/>
                <a:tab algn="r" pos="55245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QUIPEMENT / MA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77800"/>
                <a:tab algn="r" pos="2193840"/>
                <a:tab algn="r" pos="3997440"/>
                <a:tab algn="r" pos="55245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TES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LER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GR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28600" y="757080"/>
            <a:ext cx="6324480" cy="265320"/>
            <a:chOff x="228600" y="757080"/>
            <a:chExt cx="6324480" cy="265320"/>
          </a:xfrm>
        </p:grpSpPr>
        <p:sp>
          <p:nvSpPr>
            <p:cNvPr id="290" name=""/>
            <p:cNvSpPr/>
            <p:nvPr/>
          </p:nvSpPr>
          <p:spPr>
            <a:xfrm>
              <a:off x="228600" y="893880"/>
              <a:ext cx="63244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" y="757080"/>
              <a:ext cx="63244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600" y="1022400"/>
              <a:ext cx="63244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65240" y="1168560"/>
            <a:ext cx="6451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2476440"/>
                <a:tab algn="r" pos="4191120"/>
                <a:tab algn="r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ORDINATEUR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CURIT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ÔLE / MAX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PACI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2476440"/>
                <a:tab algn="r" pos="4191120"/>
                <a:tab algn="r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GRAMME D’ATTAQU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447920" y="1346040"/>
            <a:ext cx="5048280" cy="120960"/>
            <a:chOff x="1447920" y="1346040"/>
            <a:chExt cx="5048280" cy="120960"/>
          </a:xfrm>
        </p:grpSpPr>
        <p:sp>
          <p:nvSpPr>
            <p:cNvPr id="295" name=""/>
            <p:cNvSpPr/>
            <p:nvPr/>
          </p:nvSpPr>
          <p:spPr>
            <a:xfrm>
              <a:off x="1447920" y="1346040"/>
              <a:ext cx="50482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47920" y="1467000"/>
              <a:ext cx="50482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152280" y="1650960"/>
            <a:ext cx="4065840" cy="4120920"/>
            <a:chOff x="152280" y="1650960"/>
            <a:chExt cx="4065840" cy="4120920"/>
          </a:xfrm>
        </p:grpSpPr>
        <p:grpSp>
          <p:nvGrpSpPr>
            <p:cNvPr id="298" name=""/>
            <p:cNvGrpSpPr/>
            <p:nvPr/>
          </p:nvGrpSpPr>
          <p:grpSpPr>
            <a:xfrm>
              <a:off x="152280" y="1650960"/>
              <a:ext cx="4065840" cy="961920"/>
              <a:chOff x="152280" y="1650960"/>
              <a:chExt cx="4065840" cy="961920"/>
            </a:xfrm>
          </p:grpSpPr>
          <p:sp>
            <p:nvSpPr>
              <p:cNvPr id="299" name=""/>
              <p:cNvSpPr/>
              <p:nvPr/>
            </p:nvSpPr>
            <p:spPr>
              <a:xfrm>
                <a:off x="152280" y="1650960"/>
                <a:ext cx="1981440" cy="9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Z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INDAGE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UIL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ERCLE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YSTEMES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236680" y="1650960"/>
                <a:ext cx="1981440" cy="9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Z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INDAGE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UIL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ERCLE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YSTEMES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52280" y="2698920"/>
              <a:ext cx="4065840" cy="961920"/>
              <a:chOff x="152280" y="2698920"/>
              <a:chExt cx="4065840" cy="961920"/>
            </a:xfrm>
          </p:grpSpPr>
          <p:sp>
            <p:nvSpPr>
              <p:cNvPr id="302" name=""/>
              <p:cNvSpPr/>
              <p:nvPr/>
            </p:nvSpPr>
            <p:spPr>
              <a:xfrm>
                <a:off x="152280" y="2698920"/>
                <a:ext cx="1981440" cy="9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Z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INDAGE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UIL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ERCLE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YSTEMES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36680" y="2698920"/>
                <a:ext cx="1981440" cy="9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Z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INDAGE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UIL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ERCLE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YSTEMES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152280" y="3746520"/>
              <a:ext cx="4065840" cy="961920"/>
              <a:chOff x="152280" y="3746520"/>
              <a:chExt cx="4065840" cy="961920"/>
            </a:xfrm>
          </p:grpSpPr>
          <p:sp>
            <p:nvSpPr>
              <p:cNvPr id="305" name=""/>
              <p:cNvSpPr/>
              <p:nvPr/>
            </p:nvSpPr>
            <p:spPr>
              <a:xfrm>
                <a:off x="152280" y="3746520"/>
                <a:ext cx="1981440" cy="9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Z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INDAGE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UIL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ERCLE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YSTEMES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36680" y="3746520"/>
                <a:ext cx="1981440" cy="9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Black"/>
                  </a:rPr>
                  <a:t>Z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BLINDAGE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EUIL :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CERCLE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SYSTEMES :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ctr" pos="762120"/>
                    <a:tab algn="l" pos="1047600"/>
                    <a:tab algn="ctr" pos="16192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193760" y="4809960"/>
              <a:ext cx="1981080" cy="96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</a:rPr>
                <a:t>Z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LINDAGE :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UIL :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ERCLE 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ES 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ctr" pos="762120"/>
                  <a:tab algn="l" pos="1047600"/>
                  <a:tab algn="ctr" pos="16192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52280" y="7191360"/>
            <a:ext cx="6419880" cy="22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SYSTE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46720" y="3200400"/>
            <a:ext cx="2125440" cy="388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RM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5904000"/>
            <a:ext cx="4114800" cy="11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LOC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Attaque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1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2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3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4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5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6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2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-4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-6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-8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1-8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9-9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7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/ 4 A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2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-5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-6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-9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/ 4 A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RIE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2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-3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-5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8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1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-4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-7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1-9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7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RIE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-1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-2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-4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-5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7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238400"/>
                <a:tab algn="ctr" pos="1619280"/>
                <a:tab algn="ctr" pos="2000160"/>
                <a:tab algn="ctr" pos="2381400"/>
                <a:tab algn="ctr" pos="2762280"/>
                <a:tab algn="ctr" pos="3143160"/>
                <a:tab algn="ctr" pos="352440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SS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SSO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1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-3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-5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-7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-9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8600" y="6243480"/>
            <a:ext cx="3962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200" y="128520"/>
            <a:ext cx="201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ndelGothic BT"/>
              </a:rPr>
              <a:t>Fiche de véhic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36680" y="165096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165096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36680" y="269892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269892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36680" y="374652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374652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93760" y="4809960"/>
            <a:ext cx="198108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6720" y="3200400"/>
            <a:ext cx="2125440" cy="1990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RM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429080" y="1704960"/>
            <a:ext cx="2389320" cy="1533600"/>
            <a:chOff x="4429080" y="1704960"/>
            <a:chExt cx="2389320" cy="153360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tretch/>
          </p:blipFill>
          <p:spPr>
            <a:xfrm>
              <a:off x="4759200" y="1704960"/>
              <a:ext cx="1679760" cy="15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356080" y="2857680"/>
              <a:ext cx="567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08600" y="2562120"/>
              <a:ext cx="566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81600" y="2552760"/>
              <a:ext cx="566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5560" y="2114640"/>
              <a:ext cx="566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84920" y="1771560"/>
              <a:ext cx="566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05640" y="1771560"/>
              <a:ext cx="566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29080" y="2295360"/>
              <a:ext cx="566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51400" y="2295360"/>
              <a:ext cx="567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448160" y="1650960"/>
            <a:ext cx="2124000" cy="15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5240" y="579600"/>
            <a:ext cx="6451560" cy="4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577800"/>
                <a:tab algn="r" pos="2193840"/>
                <a:tab algn="r" pos="3997440"/>
                <a:tab algn="r" pos="55245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ID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ONDEU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UVER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77800"/>
                <a:tab algn="r" pos="2193840"/>
                <a:tab algn="r" pos="3997440"/>
                <a:tab algn="r" pos="55245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QUIPEMENT / MA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577800"/>
                <a:tab algn="r" pos="2193840"/>
                <a:tab algn="r" pos="3997440"/>
                <a:tab algn="r" pos="552456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TES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LER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GR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8600" y="757080"/>
            <a:ext cx="6324480" cy="265320"/>
            <a:chOff x="228600" y="757080"/>
            <a:chExt cx="6324480" cy="265320"/>
          </a:xfrm>
        </p:grpSpPr>
        <p:sp>
          <p:nvSpPr>
            <p:cNvPr id="334" name=""/>
            <p:cNvSpPr/>
            <p:nvPr/>
          </p:nvSpPr>
          <p:spPr>
            <a:xfrm>
              <a:off x="228600" y="893880"/>
              <a:ext cx="63244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8600" y="757080"/>
              <a:ext cx="63244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8600" y="1022400"/>
              <a:ext cx="63244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65240" y="1168560"/>
            <a:ext cx="6451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2476440"/>
                <a:tab algn="r" pos="4191120"/>
                <a:tab algn="r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ORDINATEUR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CURIT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ÔLE / MAX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APACI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r" pos="2476440"/>
                <a:tab algn="r" pos="4191120"/>
                <a:tab algn="r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GRAMME D’ATTAQU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447920" y="1346040"/>
            <a:ext cx="5048280" cy="120960"/>
            <a:chOff x="1447920" y="1346040"/>
            <a:chExt cx="5048280" cy="120960"/>
          </a:xfrm>
        </p:grpSpPr>
        <p:sp>
          <p:nvSpPr>
            <p:cNvPr id="339" name=""/>
            <p:cNvSpPr/>
            <p:nvPr/>
          </p:nvSpPr>
          <p:spPr>
            <a:xfrm>
              <a:off x="1447920" y="1346040"/>
              <a:ext cx="50482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47920" y="1467000"/>
              <a:ext cx="504828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52280" y="1650960"/>
            <a:ext cx="198144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LINDAGE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UIL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CLE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ES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60520" y="1650960"/>
            <a:ext cx="198144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LINDAGE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UIL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CLE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ES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2698920"/>
            <a:ext cx="198144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LINDAGE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UIL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CLE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ES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60520" y="2698920"/>
            <a:ext cx="198144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LINDAGE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UIL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CLE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ES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280" y="3746520"/>
            <a:ext cx="198144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LINDAGE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UIL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CLE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ES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60520" y="3746520"/>
            <a:ext cx="198144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LINDAGE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UIL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CLE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ES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280" y="7191360"/>
            <a:ext cx="6419880" cy="22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SYSTE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46720" y="3200400"/>
            <a:ext cx="2125440" cy="388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RM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5904000"/>
            <a:ext cx="4191120" cy="11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1143000"/>
                <a:tab algn="ctr" pos="1523880"/>
                <a:tab algn="ctr" pos="1905120"/>
                <a:tab algn="ctr" pos="2286000"/>
                <a:tab algn="ctr" pos="2666880"/>
                <a:tab algn="ctr" pos="3048120"/>
                <a:tab algn="ctr" pos="3429000"/>
                <a:tab algn="ctr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LOCAL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143000"/>
                <a:tab algn="ctr" pos="1523880"/>
                <a:tab algn="ctr" pos="1905120"/>
                <a:tab algn="ctr" pos="2286000"/>
                <a:tab algn="ctr" pos="2666880"/>
                <a:tab algn="ctr" pos="3048120"/>
                <a:tab algn="ctr" pos="3429000"/>
                <a:tab algn="ctr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Attaque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1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2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3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4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5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6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7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Z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143000"/>
                <a:tab algn="ctr" pos="1523880"/>
                <a:tab algn="ctr" pos="1905120"/>
                <a:tab algn="ctr" pos="2286000"/>
                <a:tab algn="ctr" pos="2666880"/>
                <a:tab algn="ctr" pos="3048120"/>
                <a:tab algn="ctr" pos="3429000"/>
                <a:tab algn="ctr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-2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-4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-6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-7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7-8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-9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143000"/>
                <a:tab algn="ctr" pos="1523880"/>
                <a:tab algn="ctr" pos="1905120"/>
                <a:tab algn="ctr" pos="2286000"/>
                <a:tab algn="ctr" pos="2666880"/>
                <a:tab algn="ctr" pos="3048120"/>
                <a:tab algn="ctr" pos="3429000"/>
                <a:tab algn="ctr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/ 4 A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N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1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-4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-7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-9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7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143000"/>
                <a:tab algn="ctr" pos="1523880"/>
                <a:tab algn="ctr" pos="1905120"/>
                <a:tab algn="ctr" pos="2286000"/>
                <a:tab algn="ctr" pos="2666880"/>
                <a:tab algn="ctr" pos="3048120"/>
                <a:tab algn="ctr" pos="3429000"/>
                <a:tab algn="ctr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 / 4 A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RIE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0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5-2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-5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-8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143000"/>
                <a:tab algn="ctr" pos="1523880"/>
                <a:tab algn="ctr" pos="1905120"/>
                <a:tab algn="ctr" pos="2286000"/>
                <a:tab algn="ctr" pos="2666880"/>
                <a:tab algn="ctr" pos="3048120"/>
                <a:tab algn="ctr" pos="3429000"/>
                <a:tab algn="ctr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-3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-6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-9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143000"/>
                <a:tab algn="ctr" pos="1523880"/>
                <a:tab algn="ctr" pos="1905120"/>
                <a:tab algn="ctr" pos="2286000"/>
                <a:tab algn="ctr" pos="2666880"/>
                <a:tab algn="ctr" pos="3048120"/>
                <a:tab algn="ctr" pos="3429000"/>
                <a:tab algn="ctr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RIER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0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3-1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-2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-3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-5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-7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-9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1143000"/>
                <a:tab algn="ctr" pos="1523880"/>
                <a:tab algn="ctr" pos="1905120"/>
                <a:tab algn="ctr" pos="2286000"/>
                <a:tab algn="ctr" pos="2666880"/>
                <a:tab algn="ctr" pos="3048120"/>
                <a:tab algn="ctr" pos="3429000"/>
                <a:tab algn="ctr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SS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/ 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SSO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-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-2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-3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-5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-6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-7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-9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6243480"/>
            <a:ext cx="39625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8480" y="128520"/>
            <a:ext cx="269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ndelGothic BT"/>
              </a:rPr>
              <a:t>Fiche de petit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60520" y="165096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2280" y="165096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0520" y="269892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269892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0520" y="374652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374652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46720" y="3200400"/>
            <a:ext cx="2125440" cy="1990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ARM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78440" y="2035080"/>
            <a:ext cx="5587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49760" y="2035080"/>
            <a:ext cx="5590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78440" y="2387520"/>
            <a:ext cx="5587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49760" y="2387520"/>
            <a:ext cx="5590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78440" y="2739960"/>
            <a:ext cx="55872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49760" y="2739960"/>
            <a:ext cx="5590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45200" y="2854440"/>
            <a:ext cx="596880" cy="22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0800000">
            <a:off x="4971960" y="1775880"/>
            <a:ext cx="1149480" cy="52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2792292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2792292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65840" y="1786680"/>
            <a:ext cx="1148760" cy="50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340" y="2205"/>
                </a:moveTo>
                <a:arcTo wR="10800" hR="10800" stAng="-3164026" swAng="3164026"/>
                <a:lnTo>
                  <a:pt x="10800" y="10800"/>
                </a:lnTo>
                <a:close/>
              </a:path>
              <a:path fill="none" w="21600" h="21600">
                <a:moveTo>
                  <a:pt x="17340" y="2205"/>
                </a:moveTo>
                <a:arcTo wR="10800" hR="10800" stAng="-3164026" swAng="316402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0800000">
            <a:off x="4977720" y="1806840"/>
            <a:ext cx="1126800" cy="27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63" y="18510"/>
                </a:moveTo>
                <a:arcTo wR="10800" hR="10800" stAng="2733096" swAng="5032514"/>
                <a:lnTo>
                  <a:pt x="10800" y="10800"/>
                </a:lnTo>
                <a:close/>
              </a:path>
              <a:path fill="none" w="21600" h="21600">
                <a:moveTo>
                  <a:pt x="18363" y="18510"/>
                </a:moveTo>
                <a:arcTo wR="10800" hR="10800" stAng="2733096" swAng="503251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82360" y="1809720"/>
            <a:ext cx="316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Z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83920" y="2085840"/>
            <a:ext cx="903240" cy="232920"/>
            <a:chOff x="5083920" y="2085840"/>
            <a:chExt cx="903240" cy="232920"/>
          </a:xfrm>
        </p:grpSpPr>
        <p:sp>
          <p:nvSpPr>
            <p:cNvPr id="371" name=""/>
            <p:cNvSpPr/>
            <p:nvPr/>
          </p:nvSpPr>
          <p:spPr>
            <a:xfrm>
              <a:off x="5083920" y="2089080"/>
              <a:ext cx="316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71080" y="2085840"/>
              <a:ext cx="316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083920" y="2432160"/>
            <a:ext cx="903240" cy="232920"/>
            <a:chOff x="5083920" y="2432160"/>
            <a:chExt cx="903240" cy="232920"/>
          </a:xfrm>
        </p:grpSpPr>
        <p:sp>
          <p:nvSpPr>
            <p:cNvPr id="374" name=""/>
            <p:cNvSpPr/>
            <p:nvPr/>
          </p:nvSpPr>
          <p:spPr>
            <a:xfrm>
              <a:off x="5083920" y="2435400"/>
              <a:ext cx="316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71080" y="2432160"/>
              <a:ext cx="316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Z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947120" y="2714760"/>
            <a:ext cx="316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Z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23720" y="2714760"/>
            <a:ext cx="316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Z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9120" y="2857680"/>
            <a:ext cx="316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Z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4775040"/>
            <a:ext cx="198144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LINDAGE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UIL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CLE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ES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60520" y="4775040"/>
            <a:ext cx="1981440" cy="9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LINDAGE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UIL :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ERCLE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ES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60520" y="477504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280" y="4775040"/>
            <a:ext cx="1981440" cy="1836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ctr" pos="762120"/>
                <a:tab algn="l" pos="1047600"/>
                <a:tab algn="ctr" pos="16192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Z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8:30:29Z</dcterms:created>
  <dc:creator>CHRIST</dc:creator>
  <dc:description/>
  <dc:language>en-US</dc:language>
  <cp:lastModifiedBy>Nom</cp:lastModifiedBy>
  <cp:lastPrinted>1997-11-24T04:38:08Z</cp:lastPrinted>
  <dcterms:modified xsi:type="dcterms:W3CDTF">1998-09-02T11:05:57Z</dcterms:modified>
  <cp:revision>54</cp:revision>
  <dc:subject>POLARIS</dc:subject>
  <dc:title>Fiche de prsonnage POLARIS</dc:title>
</cp:coreProperties>
</file>