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2825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022-C9D5-4C02-9E72-5A622300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840-46C1-420E-A14A-CD31BF77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B4A-923A-4CF4-9288-E4D08DFC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791-DA3C-48D4-9D8E-D6B7448A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1BE-EEFB-47B2-928E-3672665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E89-D4F4-4198-9BB5-2CDA3BB3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FFC-D150-46EF-AFB4-AC1D2F0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BF0-69B7-4BF8-ACA1-D60BF22F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CCD-8632-48C6-8439-F6AD103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1E-64A6-4887-A3FD-9DF7ED1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DC5-E500-4DD5-8AB5-CF54DA1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D49-C0C0-4FC3-9E53-E45F8A7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340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340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340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DCD-91E3-4A37-8CA9-7761131B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85800"/>
            <a:ext cx="6705360" cy="914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158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bylon Industrial"/>
              </a:rPr>
              <a:t>STARW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09480"/>
            <a:ext cx="4496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09480"/>
            <a:ext cx="44960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DESCRIPTION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1480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114800"/>
            <a:ext cx="1219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DEXTÉ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114800"/>
            <a:ext cx="213336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11480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114800"/>
            <a:ext cx="12189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SAVO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1219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MÉCA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01992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019920"/>
            <a:ext cx="12193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PER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6019920"/>
            <a:ext cx="213336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01992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6019920"/>
            <a:ext cx="12189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VIGU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6019920"/>
            <a:ext cx="1219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19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324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7924680"/>
            <a:ext cx="21337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7924680"/>
            <a:ext cx="43434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9246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DÉPLAC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OINTS DE FO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OINTS OBSCU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OINTS DE PERSONN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7924680"/>
            <a:ext cx="43434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ARM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2296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82296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ORT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82296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DÉGÂ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8763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8763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8763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8763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8763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8991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899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899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899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8991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9220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9220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9220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9220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9220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9448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944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944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944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944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021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BLES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9067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25020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NEUTRALI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9296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524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14400"/>
            <a:ext cx="4496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ARCHÉTY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R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SEXE: M / F     ÂGE:     TAILLE:        POI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DESCRIPTION PHYSI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RÉSENT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PERSONNALITÉ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OBJECTIF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CIT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87930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ÉTAT DE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8763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94788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er Gothic"/>
              </a:rPr>
              <a:t>MORTELLEMENT BLES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662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6629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6858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7086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731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6858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7086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7315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754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754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7772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7772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662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6629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6858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7086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731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6858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7086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7315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754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754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7772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7772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662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6629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6858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7086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731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6858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7086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315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754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754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7772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772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9677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9677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9677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9677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9677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685800"/>
            <a:ext cx="6705360" cy="914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158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bylon Industrial"/>
              </a:rPr>
              <a:t>STARW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762120"/>
            <a:ext cx="65534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762120"/>
            <a:ext cx="65534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É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371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371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1371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4876920"/>
            <a:ext cx="655344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876920"/>
            <a:ext cx="65534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638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5867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6095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6324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553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6781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7010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7238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7467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7696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7924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8153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8381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8610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8839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9067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9296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9524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5638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867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095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324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553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6781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7010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238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7467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7696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7924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8153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8381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8610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8839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067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9296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9524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600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600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1600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2057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286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2286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286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743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2971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3200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3657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3886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3886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4114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343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4572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320" y="701640"/>
            <a:ext cx="6705360" cy="914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bylon Industrial"/>
              </a:rPr>
              <a:t>STARW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143000"/>
            <a:ext cx="213372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143000"/>
            <a:ext cx="12193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NTRÔ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1143000"/>
            <a:ext cx="213336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1143000"/>
            <a:ext cx="12189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S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1447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1143000"/>
            <a:ext cx="213372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1143000"/>
            <a:ext cx="12193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ALT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1447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4038480"/>
            <a:ext cx="2133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NTRÔLE &amp; S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038480"/>
            <a:ext cx="213336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NTRÔLE &amp; ALTÉ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2133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CONTRÔLE, SENS &amp; ALTÉ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6858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bylon Industrial"/>
              </a:rPr>
              <a:t>FEUILLE DU J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038480"/>
            <a:ext cx="213372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4038480"/>
            <a:ext cx="213336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4038480"/>
            <a:ext cx="213372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6934320"/>
            <a:ext cx="6553440" cy="28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6934320"/>
            <a:ext cx="65534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etter Gothic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7620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7620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76201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828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828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1828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22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6324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655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6553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6324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655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6553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5248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5248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6324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2480" y="655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6553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7848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7848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7848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8077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8077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8077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8305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8305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8305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8534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8320" y="8534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8534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8763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8763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87631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8991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8991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8991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9220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9220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9220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9448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48320" y="9448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8280" y="9448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9677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9677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9677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3:21:32Z</dcterms:created>
  <dc:creator>JLX</dc:creator>
  <dc:description/>
  <dc:language>en-US</dc:language>
  <cp:lastModifiedBy>JLX</cp:lastModifiedBy>
  <cp:lastPrinted>2001-01-24T19:22:00Z</cp:lastPrinted>
  <dcterms:modified xsi:type="dcterms:W3CDTF">2001-01-25T12:47:57Z</dcterms:modified>
  <cp:revision>80</cp:revision>
  <dc:subject/>
  <dc:title>No Slide Title</dc:title>
</cp:coreProperties>
</file>