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0440" y="2189160"/>
            <a:ext cx="4111560" cy="459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486400" y="228600"/>
          <a:ext cx="1600200" cy="534960"/>
        </p:xfrm>
        <a:graphic>
          <a:graphicData uri="http://schemas.openxmlformats.org/drawingml/2006/table">
            <a:tbl>
              <a:tblPr/>
              <a:tblGrid>
                <a:gridCol w="1209600"/>
                <a:gridCol w="390600"/>
              </a:tblGrid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qu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inte de cor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257800" y="907920"/>
          <a:ext cx="2057400" cy="539640"/>
        </p:xfrm>
        <a:graphic>
          <a:graphicData uri="http://schemas.openxmlformats.org/drawingml/2006/table">
            <a:tbl>
              <a:tblPr/>
              <a:tblGrid>
                <a:gridCol w="1508400"/>
                <a:gridCol w="549000"/>
              </a:tblGrid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igue init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igue max 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486560" y="228600"/>
          <a:ext cx="2190600" cy="1214280"/>
        </p:xfrm>
        <a:graphic>
          <a:graphicData uri="http://schemas.openxmlformats.org/drawingml/2006/table">
            <a:tbl>
              <a:tblPr/>
              <a:tblGrid>
                <a:gridCol w="365040"/>
                <a:gridCol w="365040"/>
                <a:gridCol w="365400"/>
                <a:gridCol w="365040"/>
                <a:gridCol w="368280"/>
                <a:gridCol w="361800"/>
              </a:tblGrid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8177400" y="-763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Fati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34120" y="1523880"/>
          <a:ext cx="4343400" cy="5234040"/>
        </p:xfrm>
        <a:graphic>
          <a:graphicData uri="http://schemas.openxmlformats.org/drawingml/2006/table">
            <a:tbl>
              <a:tblPr/>
              <a:tblGrid>
                <a:gridCol w="352440"/>
                <a:gridCol w="1417680"/>
                <a:gridCol w="884160"/>
                <a:gridCol w="804600"/>
                <a:gridCol w="884520"/>
              </a:tblGrid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t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less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éri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â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s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as dr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rse dr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rse gau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ras gau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ant bras dr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domen dr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domen gau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ant bras gau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 dro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ch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 gau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isse dro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isse gau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mbe dro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mbe gau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ed dr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ed gau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76320" y="76320"/>
          <a:ext cx="4800600" cy="2133360"/>
        </p:xfrm>
        <a:graphic>
          <a:graphicData uri="http://schemas.openxmlformats.org/drawingml/2006/table">
            <a:tbl>
              <a:tblPr/>
              <a:tblGrid>
                <a:gridCol w="1204920"/>
                <a:gridCol w="547560"/>
                <a:gridCol w="647640"/>
                <a:gridCol w="800280"/>
                <a:gridCol w="799920"/>
                <a:gridCol w="800280"/>
              </a:tblGrid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P (+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é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……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…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5:31:08Z</dcterms:created>
  <dc:creator>a067997</dc:creator>
  <dc:description/>
  <dc:language>en-US</dc:language>
  <cp:lastModifiedBy>Franck SIMON</cp:lastModifiedBy>
  <cp:lastPrinted>2007-04-01T17:38:25Z</cp:lastPrinted>
  <dcterms:modified xsi:type="dcterms:W3CDTF">2007-04-15T19:28:12Z</dcterms:modified>
  <cp:revision>74</cp:revision>
  <dc:subject/>
  <dc:title>Diapositive 1</dc:title>
</cp:coreProperties>
</file>