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2920" y="0"/>
            <a:ext cx="6562800" cy="990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2"/>
          <a:stretch/>
        </p:blipFill>
        <p:spPr>
          <a:xfrm>
            <a:off x="76320" y="0"/>
            <a:ext cx="6751440" cy="990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09400" y="82440"/>
            <a:ext cx="22838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Brush Script MT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6280" y="766800"/>
            <a:ext cx="590400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Peuple :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Père :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Age :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Langue :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ère :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Milieu social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Occupation :           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Prestige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3080" y="1650960"/>
            <a:ext cx="3844440" cy="17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Comic Sans MS"/>
              </a:rPr>
              <a:t>Caractérist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hysique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sychique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Force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Volonté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Rapidité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Décision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Coordination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Intelligence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pparence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Aura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ill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Beauté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d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96880"/>
                <a:tab algn="l" pos="1193760"/>
                <a:tab algn="l" pos="1790640"/>
                <a:tab algn="l" pos="2387520"/>
                <a:tab algn="l" pos="2984400"/>
                <a:tab algn="l" pos="3581280"/>
                <a:tab algn="l" pos="417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Honnêteté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Comic Sans MS"/>
              </a:rPr>
              <a:t>.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atigue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59520" y="1650960"/>
            <a:ext cx="1958760" cy="173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omic Sans MS"/>
              </a:rPr>
              <a:t>D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Combat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Magie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Artistique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Communication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Perception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Mécanique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Nature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Foi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3938760"/>
            <a:ext cx="1447560" cy="37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Com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hys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utela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pée longu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squiv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nc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ins nue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pieu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urdi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d bouclie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ch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uclier ron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ond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avelot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ignar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sych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1047600"/>
                <a:tab algn="l" pos="1571760"/>
                <a:tab algn="l" pos="2095560"/>
                <a:tab algn="l" pos="2619360"/>
                <a:tab algn="l" pos="3143160"/>
                <a:tab algn="l" pos="3666960"/>
                <a:tab algn="l" pos="4191120"/>
                <a:tab algn="l" pos="4714920"/>
                <a:tab algn="l" pos="5238720"/>
                <a:tab algn="l" pos="5762520"/>
                <a:tab algn="l" pos="6286680"/>
                <a:tab algn="l" pos="6810480"/>
                <a:tab algn="l" pos="7334280"/>
                <a:tab algn="l" pos="7858080"/>
                <a:tab algn="l" pos="8381880"/>
                <a:tab algn="l" pos="8906040"/>
                <a:tab algn="l" pos="9429840"/>
                <a:tab algn="l" pos="995364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t militair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8320" y="3938760"/>
            <a:ext cx="1952280" cy="37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sych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iqu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vaincr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ngue Gauloi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ngue Lati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ngue Gre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ngue Phénicie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ngue Egyptie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égende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phabet Lati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phabet Gre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ppa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éduc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 renseigne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oquenc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Honnête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rchandag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28920" y="3938760"/>
            <a:ext cx="1524240" cy="30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Perce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batie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gilité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nipule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sych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mite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aluer vin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aluer arme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aluer métaux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Dé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en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émorise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ienta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ilosophi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44960" y="3938760"/>
            <a:ext cx="18367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hys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scalad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ge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va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sych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édecines plante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édecine sanglant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viga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Dé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telag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emiers soin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tronomi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sse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n. Animaux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n. Créature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n. Plante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ciences terr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prendr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10120" y="8785080"/>
            <a:ext cx="16761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fr-FR" sz="1200" spc="-1" strike="noStrike">
                <a:solidFill>
                  <a:srgbClr val="ff0000"/>
                </a:solidFill>
                <a:latin typeface="Comic Sans MS"/>
              </a:rPr>
              <a:t>Ma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Comic Sans MS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Alph. Oghamique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27640" y="7696080"/>
            <a:ext cx="11775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Artist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Psych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siqu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ési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éâtr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Appa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nt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ns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8610480"/>
            <a:ext cx="155412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F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n. Mythique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8610480"/>
            <a:ext cx="1523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46240"/>
                <a:tab algn="l" pos="492120"/>
                <a:tab algn="l" pos="738360"/>
                <a:tab algn="l" pos="984240"/>
                <a:tab algn="l" pos="1230480"/>
                <a:tab algn="l" pos="1476360"/>
                <a:tab algn="l" pos="1722600"/>
                <a:tab algn="l" pos="1968480"/>
                <a:tab algn="l" pos="2214720"/>
                <a:tab algn="l" pos="2460600"/>
                <a:tab algn="l" pos="2706840"/>
                <a:tab algn="l" pos="2952720"/>
                <a:tab algn="l" pos="3198960"/>
                <a:tab algn="l" pos="3444840"/>
                <a:tab algn="l" pos="3691080"/>
                <a:tab algn="l" pos="3936960"/>
                <a:tab algn="l" pos="4183200"/>
                <a:tab algn="l" pos="4429080"/>
                <a:tab algn="l" pos="4675320"/>
                <a:tab algn="l" pos="49212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Méca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6240"/>
                <a:tab algn="l" pos="492120"/>
                <a:tab algn="l" pos="738360"/>
                <a:tab algn="l" pos="984240"/>
                <a:tab algn="l" pos="1230480"/>
                <a:tab algn="l" pos="1476360"/>
                <a:tab algn="l" pos="1722600"/>
                <a:tab algn="l" pos="1968480"/>
                <a:tab algn="l" pos="2214720"/>
                <a:tab algn="l" pos="2460600"/>
                <a:tab algn="l" pos="2706840"/>
                <a:tab algn="l" pos="2952720"/>
                <a:tab algn="l" pos="3198960"/>
                <a:tab algn="l" pos="3444840"/>
                <a:tab algn="l" pos="3691080"/>
                <a:tab algn="l" pos="3936960"/>
                <a:tab algn="l" pos="4183200"/>
                <a:tab algn="l" pos="4429080"/>
                <a:tab algn="l" pos="4675320"/>
                <a:tab algn="l" pos="49212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6240"/>
                <a:tab algn="l" pos="492120"/>
                <a:tab algn="l" pos="738360"/>
                <a:tab algn="l" pos="984240"/>
                <a:tab algn="l" pos="1230480"/>
                <a:tab algn="l" pos="1476360"/>
                <a:tab algn="l" pos="1722600"/>
                <a:tab algn="l" pos="1968480"/>
                <a:tab algn="l" pos="2214720"/>
                <a:tab algn="l" pos="2460600"/>
                <a:tab algn="l" pos="2706840"/>
                <a:tab algn="l" pos="2952720"/>
                <a:tab algn="l" pos="3198960"/>
                <a:tab algn="l" pos="3444840"/>
                <a:tab algn="l" pos="3691080"/>
                <a:tab algn="l" pos="3936960"/>
                <a:tab algn="l" pos="4183200"/>
                <a:tab algn="l" pos="4429080"/>
                <a:tab algn="l" pos="4675320"/>
                <a:tab algn="l" pos="492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ège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46240"/>
                <a:tab algn="l" pos="492120"/>
                <a:tab algn="l" pos="738360"/>
                <a:tab algn="l" pos="984240"/>
                <a:tab algn="l" pos="1230480"/>
                <a:tab algn="l" pos="1476360"/>
                <a:tab algn="l" pos="1722600"/>
                <a:tab algn="l" pos="1968480"/>
                <a:tab algn="l" pos="2214720"/>
                <a:tab algn="l" pos="2460600"/>
                <a:tab algn="l" pos="2706840"/>
                <a:tab algn="l" pos="2952720"/>
                <a:tab algn="l" pos="3198960"/>
                <a:tab algn="l" pos="3444840"/>
                <a:tab algn="l" pos="3691080"/>
                <a:tab algn="l" pos="3936960"/>
                <a:tab algn="l" pos="4183200"/>
                <a:tab algn="l" pos="4429080"/>
                <a:tab algn="l" pos="4675320"/>
                <a:tab algn="l" pos="492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hines siège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9840" y="152280"/>
            <a:ext cx="13935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Pouvo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uidiqu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natoir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rdiqu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giqu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édica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errie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 la forg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9120" y="142920"/>
            <a:ext cx="2523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Connaissance de la magie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33520"/>
            <a:ext cx="4267080" cy="210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Connaiss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……………………………………………………………………………………………………</a:t>
            </a: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1280" y="2286000"/>
          <a:ext cx="6674040" cy="5043600"/>
        </p:xfrm>
        <a:graphic>
          <a:graphicData uri="http://schemas.openxmlformats.org/drawingml/2006/table">
            <a:tbl>
              <a:tblPr/>
              <a:tblGrid>
                <a:gridCol w="476280"/>
                <a:gridCol w="533520"/>
                <a:gridCol w="984240"/>
                <a:gridCol w="449280"/>
                <a:gridCol w="450720"/>
                <a:gridCol w="2847960"/>
                <a:gridCol w="93204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rtilè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pos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……………………………………………………………………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…………………………………………………………………………… …………………………………………………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…………………………………………………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…………………………………………………………………………… …………………………………………………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…………………………………………………………………… …………………………………………………………………………… …………………………………………………………………………… …………………………………………………………………………… …………………………………………………………………………… …………………………………………………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…………………………………………………………………… …………………………………………………………………………… …………………………………………………………………………… …………………………………………………………………………… …………………………………………………………………………… …………………………………………………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1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…………………………………………………………………… …………………………………………………………………………… …………………………………………………………………………… …………………………………………………………………………… …………………………………………………………………………… …………………………………………………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8077320"/>
            <a:ext cx="6475320" cy="149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isto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_______________________________________________________________________________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0160" y="3505320"/>
            <a:ext cx="3170160" cy="4343040"/>
            <a:chOff x="200160" y="3505320"/>
            <a:chExt cx="3170160" cy="4343040"/>
          </a:xfrm>
        </p:grpSpPr>
        <p:sp>
          <p:nvSpPr>
            <p:cNvPr id="94" name=""/>
            <p:cNvSpPr/>
            <p:nvPr/>
          </p:nvSpPr>
          <p:spPr>
            <a:xfrm>
              <a:off x="228600" y="3505320"/>
              <a:ext cx="3141720" cy="434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0160" y="3531960"/>
              <a:ext cx="10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Rencont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552840" y="3505320"/>
            <a:ext cx="3152880" cy="4343040"/>
            <a:chOff x="3552840" y="3505320"/>
            <a:chExt cx="3152880" cy="4343040"/>
          </a:xfrm>
        </p:grpSpPr>
        <p:sp>
          <p:nvSpPr>
            <p:cNvPr id="97" name=""/>
            <p:cNvSpPr/>
            <p:nvPr/>
          </p:nvSpPr>
          <p:spPr>
            <a:xfrm>
              <a:off x="3564000" y="3505320"/>
              <a:ext cx="3141720" cy="434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2840" y="353196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Lieux visité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" name=""/>
          <p:cNvGraphicFramePr/>
          <p:nvPr/>
        </p:nvGraphicFramePr>
        <p:xfrm>
          <a:off x="152280" y="228600"/>
          <a:ext cx="2057400" cy="3048120"/>
        </p:xfrm>
        <a:graphic>
          <a:graphicData uri="http://schemas.openxmlformats.org/drawingml/2006/table">
            <a:tbl>
              <a:tblPr/>
              <a:tblGrid>
                <a:gridCol w="1489680"/>
                <a:gridCol w="56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quip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438280" y="228600"/>
          <a:ext cx="2057400" cy="3048120"/>
        </p:xfrm>
        <a:graphic>
          <a:graphicData uri="http://schemas.openxmlformats.org/drawingml/2006/table">
            <a:tbl>
              <a:tblPr/>
              <a:tblGrid>
                <a:gridCol w="1489680"/>
                <a:gridCol w="56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quip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724280" y="228600"/>
          <a:ext cx="2057400" cy="3048120"/>
        </p:xfrm>
        <a:graphic>
          <a:graphicData uri="http://schemas.openxmlformats.org/drawingml/2006/table">
            <a:tbl>
              <a:tblPr/>
              <a:tblGrid>
                <a:gridCol w="1489680"/>
                <a:gridCol w="5677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quip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i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41280" y="3733920"/>
            <a:ext cx="3102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18000" y="3733920"/>
            <a:ext cx="3102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5:31:08Z</dcterms:created>
  <dc:creator>a067997</dc:creator>
  <dc:description/>
  <dc:language>en-US</dc:language>
  <cp:lastModifiedBy>Franck SIMON</cp:lastModifiedBy>
  <cp:lastPrinted>2007-04-15T09:33:47Z</cp:lastPrinted>
  <dcterms:modified xsi:type="dcterms:W3CDTF">2008-02-17T10:39:08Z</dcterms:modified>
  <cp:revision>95</cp:revision>
  <dc:subject/>
  <dc:title>Diapositive 1</dc:title>
</cp:coreProperties>
</file>