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907588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B50-730F-493E-B7DE-C7F49B65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752-BA64-4957-A6B2-8D1CC46D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F7D-98AF-476C-88EE-2DAA5713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705-1262-4332-87A9-6447066A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326-EEA6-4E3B-ACF2-7580E4A4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11D-F12C-4E73-8B2A-83BAD3C8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F57-A0A9-46FB-AA1D-84170213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3EB-55BC-4FA0-B16F-BECA21BB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674-2225-4A00-8EA4-260A279E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383-60FC-4C94-9778-FC77DE29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2F4-7309-4308-A146-517CF405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2C3-9B00-455A-8EB9-383DEC95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6EF0-3501-4EB1-9520-07A782EB2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74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28600"/>
            <a:ext cx="1371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NOM DU PERSONN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274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2286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JOUEU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579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579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579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579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533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CLAS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533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RA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53352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ALIGN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33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DIE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88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88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88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88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88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88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88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88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8380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NIVEA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8380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CATÉGORIE DE TAI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8380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Â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8380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SEX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8380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TAI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8380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POI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8380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YEU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8380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CHEVEU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63600"/>
            <a:ext cx="1066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pprplGoth BT"/>
              </a:rPr>
              <a:t>CARACTÉRISTIQU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447920"/>
            <a:ext cx="7621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1905120"/>
            <a:ext cx="7621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362320"/>
            <a:ext cx="7621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2819520"/>
            <a:ext cx="7621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3276720"/>
            <a:ext cx="7621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3733920"/>
            <a:ext cx="7621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26360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VALE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12636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IF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1447920"/>
            <a:ext cx="304920" cy="30456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1447920"/>
            <a:ext cx="304560" cy="30456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1171440"/>
            <a:ext cx="762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VALE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1171440"/>
            <a:ext cx="7617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IF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283536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pprplGoth BT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283536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ACTU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2743200"/>
            <a:ext cx="457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É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 V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301932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55627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pprplGoth BT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5318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 10 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5562720"/>
            <a:ext cx="7617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BONUS D’ARM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5562720"/>
            <a:ext cx="762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BONUS DE BOUCLI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533412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5562720"/>
            <a:ext cx="762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DE DEXTÉRITÉ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33412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562720"/>
            <a:ext cx="7617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DE TAIL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33412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5562720"/>
            <a:ext cx="762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ARMURE NATUREL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533412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5562720"/>
            <a:ext cx="762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DIV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533412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126360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VITESSE DE DÉPLAC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1447920"/>
            <a:ext cx="1600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14479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1171440"/>
            <a:ext cx="685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ÉCHECS DES SOR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1447920"/>
            <a:ext cx="609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1171440"/>
            <a:ext cx="762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ÉNALITÉ D’ARM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14479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1171440"/>
            <a:ext cx="838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ÉSIST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Á LA MAG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14479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171440"/>
            <a:ext cx="838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HANC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’ÊTRE RATÉ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1828800"/>
            <a:ext cx="106668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133720"/>
            <a:ext cx="761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pprplGoth BT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133720"/>
            <a:ext cx="762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DE DEXTÉRITÉ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90512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2133720"/>
            <a:ext cx="762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DIV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90512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54484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À L’ATTA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92200"/>
            <a:ext cx="160020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BONUS DE BA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14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6354720"/>
            <a:ext cx="152424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CORPS Á CO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6324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61405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pprplGoth BT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63244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6048360"/>
            <a:ext cx="838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BONUS DE BAS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Á L’ATTAQU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63723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6324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6048360"/>
            <a:ext cx="762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DE FOR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63723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6324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6048360"/>
            <a:ext cx="7617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DE TAIL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63723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6324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6048360"/>
            <a:ext cx="762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IV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63723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6324480"/>
            <a:ext cx="304920" cy="3049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048360"/>
            <a:ext cx="762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63723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6811920"/>
            <a:ext cx="152424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3781440"/>
            <a:ext cx="9903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RÉF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010040"/>
            <a:ext cx="9903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(DEXTÉRITÉ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4238640"/>
            <a:ext cx="9903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VIGU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467240"/>
            <a:ext cx="9903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(CONSTITU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4695840"/>
            <a:ext cx="9903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VOLO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4916520"/>
            <a:ext cx="9903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(SAGESS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2057400"/>
            <a:ext cx="106668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MODIFICATE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1143000"/>
            <a:ext cx="2438280" cy="4038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5181480"/>
            <a:ext cx="5105160" cy="83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6019920"/>
            <a:ext cx="5105160" cy="137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676520"/>
            <a:ext cx="7621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FOR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2133720"/>
            <a:ext cx="7621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DEXTER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2590920"/>
            <a:ext cx="7621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CONSTITU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3048120"/>
            <a:ext cx="7621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INTELLIG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3505320"/>
            <a:ext cx="7621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SAGE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3962520"/>
            <a:ext cx="7621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CHARIS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6202440"/>
            <a:ext cx="152424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BONUS D’ATTAQUE 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6659640"/>
            <a:ext cx="152424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BONUS D’ATTAQUE À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3019320"/>
            <a:ext cx="7617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P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9144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247920"/>
            <a:ext cx="7617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POINTS DE V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5486400"/>
            <a:ext cx="91440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CLASSE D’ARM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05320"/>
            <a:ext cx="426708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47328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rplGoth BT"/>
              </a:rPr>
              <a:t>JETS DE SAUVEGAR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2743200"/>
            <a:ext cx="838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ÉDUCTIO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S DÉGÂ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301932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-76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erwood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Sherwood"/>
              </a:rPr>
              <a:t>ONJONS &amp; </a:t>
            </a:r>
            <a:r>
              <a:rPr b="0" lang="en-US" sz="2000" spc="-1" strike="noStrike">
                <a:solidFill>
                  <a:srgbClr val="000000"/>
                </a:solidFill>
                <a:latin typeface="Sherwood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Sherwood"/>
              </a:rPr>
              <a:t>RAG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15228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rplGoth BT"/>
              </a:rPr>
              <a:t>FEUILLE DE PERSONN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905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2819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3733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1905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1905120"/>
            <a:ext cx="304920" cy="30456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1905120"/>
            <a:ext cx="304560" cy="30456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2362320"/>
            <a:ext cx="304920" cy="30456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2362320"/>
            <a:ext cx="304560" cy="30456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819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819520"/>
            <a:ext cx="304920" cy="30456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2819520"/>
            <a:ext cx="304560" cy="30456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3276720"/>
            <a:ext cx="304920" cy="30456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3276720"/>
            <a:ext cx="304560" cy="30456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733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304920" cy="30456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3733920"/>
            <a:ext cx="304560" cy="30456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1828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1828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1828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01932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01932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3019320"/>
            <a:ext cx="1218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1143000"/>
            <a:ext cx="4267080" cy="236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5257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5257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5257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1800" y="5257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5257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5257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5257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5867280"/>
            <a:ext cx="99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TYPE D’ARM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59133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6781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67816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685800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6781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685800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6781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685800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6781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685800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6781680"/>
            <a:ext cx="304920" cy="3049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685800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7086600"/>
            <a:ext cx="762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DE DEXTÉRITÉ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7086600"/>
            <a:ext cx="7617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DE TAIL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7086600"/>
            <a:ext cx="762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IV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7086600"/>
            <a:ext cx="762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70866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pprplGoth BT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7086600"/>
            <a:ext cx="838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BONUS DE BAS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Á L’ATTAQU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91120" y="283536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ÉGÂTS TEMPORAI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378144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38577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378144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38577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378144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29200" y="38577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378144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38577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3781440"/>
            <a:ext cx="304920" cy="3049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38577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78144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5971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pprplGoth BT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359712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BA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35053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DE CARACT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35053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MAGIQU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3505320"/>
            <a:ext cx="7617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IV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3505320"/>
            <a:ext cx="762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423864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43149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423864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3149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423864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43149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423864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43149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4238640"/>
            <a:ext cx="304920" cy="3049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43149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423864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469584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47721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469584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47721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57800" y="469584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47721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469584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7721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4695840"/>
            <a:ext cx="304920" cy="3049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772160"/>
            <a:ext cx="22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469584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4343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4572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4800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5029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4983120"/>
            <a:ext cx="990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NO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95280" y="7496280"/>
            <a:ext cx="83844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BONUS TOTA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D’ATTAQU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7772400"/>
            <a:ext cx="8384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320" y="777240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7772400"/>
            <a:ext cx="7617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7496280"/>
            <a:ext cx="76176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DÉGÂ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7772400"/>
            <a:ext cx="8384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7496280"/>
            <a:ext cx="83844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COUP CRITIQU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3920" y="7772400"/>
            <a:ext cx="5331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7496280"/>
            <a:ext cx="53316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PORT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7080" y="777240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7496280"/>
            <a:ext cx="53352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POI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777240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7496280"/>
            <a:ext cx="53352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TYP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7772400"/>
            <a:ext cx="5331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7496280"/>
            <a:ext cx="53316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TAIL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77724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7496280"/>
            <a:ext cx="91440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PROPRIÉTÉ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7497720"/>
            <a:ext cx="12189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ARME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8001000"/>
            <a:ext cx="8384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320" y="800100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8001000"/>
            <a:ext cx="7617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8001000"/>
            <a:ext cx="8384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8001000"/>
            <a:ext cx="5331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800100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800100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8001000"/>
            <a:ext cx="5331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80010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8229600"/>
            <a:ext cx="8384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320" y="822960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8229600"/>
            <a:ext cx="7617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8229600"/>
            <a:ext cx="8384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8229600"/>
            <a:ext cx="5331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822960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822960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8229600"/>
            <a:ext cx="5331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8229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8839080"/>
            <a:ext cx="1600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856296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ARM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8839080"/>
            <a:ext cx="5331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8562960"/>
            <a:ext cx="53316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TYP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09680" y="88390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8562960"/>
            <a:ext cx="53352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BONUS À LA 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88390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8562960"/>
            <a:ext cx="53352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BONUS  DEX MA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88390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8562960"/>
            <a:ext cx="68580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PÉNALITÉ D’ARM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883908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8562960"/>
            <a:ext cx="60948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ÉCHEC AUX SOR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883908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8562960"/>
            <a:ext cx="60948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VITE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DÉ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88390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8562960"/>
            <a:ext cx="53352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POI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88390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8562960"/>
            <a:ext cx="106668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PROPRIÉTÉ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320" y="9448920"/>
            <a:ext cx="1600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320" y="9172440"/>
            <a:ext cx="16002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BOUC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76520" y="9448920"/>
            <a:ext cx="5331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9172440"/>
            <a:ext cx="53316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BONUS À LA 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09680" y="9448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9172440"/>
            <a:ext cx="68580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PÉNALITÉ D’ARM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944892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9172440"/>
            <a:ext cx="60984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ÉCHEC AUX SOR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9448920"/>
            <a:ext cx="5331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05320" y="9172440"/>
            <a:ext cx="53316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POI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38480" y="9448920"/>
            <a:ext cx="2743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9172440"/>
            <a:ext cx="2743200" cy="2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PROPRIÉTÉ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pprplGoth BT"/>
              </a:rPr>
              <a:t>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9721800"/>
            <a:ext cx="685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FEUILLE DE PERSONNAGE POUR DONJONS &amp; DRAGONS, 3E EDITION (2001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5257800"/>
            <a:ext cx="1523880" cy="21337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7207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RTRAI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1981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57800" y="2438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57800" y="2666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26208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pprplGoth BT"/>
              </a:rPr>
              <a:t>NO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419720" y="-76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erwood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Sherwood"/>
              </a:rPr>
              <a:t>ONJONS &amp; </a:t>
            </a:r>
            <a:r>
              <a:rPr b="0" lang="en-US" sz="2000" spc="-1" strike="noStrike">
                <a:solidFill>
                  <a:srgbClr val="000000"/>
                </a:solidFill>
                <a:latin typeface="Sherwood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Sherwood"/>
              </a:rPr>
              <a:t>RAG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15228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rplGoth BT"/>
              </a:rPr>
              <a:t>FEUILLE DE PERSONN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457200"/>
            <a:ext cx="29718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COMP</a:t>
            </a:r>
            <a:r>
              <a:rPr b="0" lang="en-US" sz="1200" spc="-1" strike="noStrike">
                <a:solidFill>
                  <a:srgbClr val="ffffff"/>
                </a:solidFill>
                <a:latin typeface="Sherwood"/>
              </a:rPr>
              <a:t>É</a:t>
            </a: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-249840" y="857880"/>
            <a:ext cx="99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AUTRE CLA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320" y="380880"/>
            <a:ext cx="4343400" cy="7010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457200"/>
            <a:ext cx="1067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GRÉS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AÎTRISE MAX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38480" y="457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914400"/>
            <a:ext cx="15238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9144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OMPÉT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914400"/>
            <a:ext cx="4572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91440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ARACT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ASSOCI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914400"/>
            <a:ext cx="4572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62320" y="914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DE COMPÉ-T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95480" y="914400"/>
            <a:ext cx="4572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19520" y="91440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DE CARACT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914400"/>
            <a:ext cx="4572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91440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GRÉ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AÎTRI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9880" y="914400"/>
            <a:ext cx="4572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91440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DIV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523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1460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900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339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1339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33920" y="1339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1371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1752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718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1568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1568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33920" y="1568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1600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1981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5740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7180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1797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76720" y="1797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33920" y="1797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1828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146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718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19520" y="2025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76720" y="2025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33920" y="2025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2057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574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718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2254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2254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33920" y="2254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2286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2666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574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46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718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290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19520" y="2482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2482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2482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146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19520" y="2711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2711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2711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3124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146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9718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2940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2940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2940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19520" y="3168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76720" y="3168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33920" y="3168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860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3581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574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46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718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290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19520" y="3397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3397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33920" y="3397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0574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146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718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290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9520" y="3625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3625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33920" y="3625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4038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180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2900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620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19520" y="3854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3854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3854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" y="3886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3520" y="4267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146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718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290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4083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4083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33920" y="4083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4114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574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14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29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4311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76720" y="4311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33920" y="4311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" y="4343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35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146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718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4290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86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4540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76720" y="4540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33920" y="4540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4572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3520" y="495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5740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1460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7180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900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8620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4768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276720" y="4768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733920" y="4768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" y="4800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352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574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146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718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29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4997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4997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733920" y="4997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" y="5029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352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1460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7180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2900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8620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19520" y="5226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76720" y="5226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33920" y="5226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5257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352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1460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7180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454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76720" y="5454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33920" y="5454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" y="5486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352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460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7180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2900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8620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5683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76720" y="5683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33920" y="5683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8600" y="5715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6095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574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146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71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4290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62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19520" y="5911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911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33920" y="5911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5943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6324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5740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51460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7180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2900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8620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6140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76720" y="6140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33920" y="61405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8600" y="6172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6553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057400" y="6553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14600" y="6553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6553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29000" y="6553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86200" y="6553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6369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76720" y="6369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33920" y="6369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" y="6400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520" y="6781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6781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14600" y="6781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71800" y="6781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29000" y="6781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6781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19520" y="6597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76720" y="6597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733920" y="65977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6629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520" y="7010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701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701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971800" y="701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701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86200" y="701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6826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6826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733920" y="68263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" y="6858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520" y="7238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7400" y="7238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14600" y="7238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71800" y="7238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7238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86200" y="7238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19520" y="7054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76720" y="7054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33920" y="70549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7086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9721800"/>
            <a:ext cx="685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FEUILLE DE PERSONNAGE POUR DONJONS &amp; DRAGONS, 3E EDITION (2001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19720" y="380880"/>
            <a:ext cx="23619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POUVOIRS SP</a:t>
            </a:r>
            <a:r>
              <a:rPr b="0" lang="en-US" sz="1200" spc="-1" strike="noStrike">
                <a:solidFill>
                  <a:srgbClr val="ffffff"/>
                </a:solidFill>
                <a:latin typeface="Sherwood"/>
              </a:rPr>
              <a:t>É</a:t>
            </a: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CIAUX / 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7391520"/>
            <a:ext cx="487656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19720" y="380880"/>
            <a:ext cx="2361960" cy="4191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495680" y="1219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95680" y="1447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495680" y="1676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95680" y="19051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95680" y="21337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95680" y="2362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95680" y="2590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95680" y="2819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30481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95680" y="32767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95680" y="3505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95680" y="3733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95680" y="3962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41911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495680" y="44197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320" y="19692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AMPAG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320" y="228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71800" y="228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19692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INTS D’EXPÉRI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320" y="7391520"/>
            <a:ext cx="48765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herwood"/>
              </a:rPr>
              <a:t>É</a:t>
            </a: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QUIP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7664400"/>
            <a:ext cx="1981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OBJ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76201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057400" y="76201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495680" y="76201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7543800"/>
            <a:ext cx="1981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OBJ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57400" y="76644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I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95680" y="76644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I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320" y="78487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14600" y="76201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14600" y="78487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14600" y="7664400"/>
            <a:ext cx="1981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OBJ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57400" y="78487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95680" y="78487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14600" y="762012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320" y="80773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514600" y="80773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057400" y="80773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95680" y="80773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6320" y="83059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83059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57400" y="83059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95680" y="83059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6320" y="85345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14600" y="85345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057400" y="85345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95680" y="85345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6320" y="87631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14600" y="87631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57400" y="87631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95680" y="87631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320" y="89917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14600" y="89917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57400" y="89917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95680" y="89917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320" y="92203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514600" y="92203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57400" y="92203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92203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320" y="94489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14600" y="94489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057400" y="94489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95680" y="944892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52880" y="7391520"/>
            <a:ext cx="18288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herwood"/>
              </a:rPr>
              <a:t>AR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52880" y="7391520"/>
            <a:ext cx="182880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52880" y="7664400"/>
            <a:ext cx="1828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IÈCES DE CUIV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952880" y="8077320"/>
            <a:ext cx="1828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IÈCES D’ARG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52880" y="8534520"/>
            <a:ext cx="1828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IÈCES D’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952880" y="8991720"/>
            <a:ext cx="1828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IÈCES DE PLATI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95680" y="6202440"/>
            <a:ext cx="221004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herwood"/>
              </a:rPr>
              <a:t>LAN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95680" y="7010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95680" y="7238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572000" y="4724280"/>
            <a:ext cx="45720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410080" y="4724280"/>
            <a:ext cx="45720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248520" y="4724280"/>
            <a:ext cx="45720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95680" y="5029200"/>
            <a:ext cx="609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pprplGoth BT"/>
              </a:rPr>
              <a:t>CHARGE LÉGÈ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81480" y="502920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pprplGoth BT"/>
              </a:rPr>
              <a:t>CHARGE INTERMÉDIAI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72200" y="502920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pprplGoth BT"/>
              </a:rPr>
              <a:t>CHARGE LOUR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572000" y="5423040"/>
            <a:ext cx="4572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10080" y="5423040"/>
            <a:ext cx="4572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48520" y="5423040"/>
            <a:ext cx="4572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343400" y="572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pprplGoth BT"/>
              </a:rPr>
              <a:t>PORTER Á BOUT DE BR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(CHARGE MAX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181480" y="572760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pprplGoth BT"/>
              </a:rPr>
              <a:t>SOULEV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(2 X CHARGE MAX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19920" y="5727600"/>
            <a:ext cx="914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pprplGoth BT"/>
              </a:rPr>
              <a:t>TIRER OU POUSS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(5 X CHARGE MAX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495680" y="6781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4419720" y="-76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erwood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Sherwood"/>
              </a:rPr>
              <a:t>ONJONS &amp; </a:t>
            </a:r>
            <a:r>
              <a:rPr b="0" lang="en-US" sz="2000" spc="-1" strike="noStrike">
                <a:solidFill>
                  <a:srgbClr val="000000"/>
                </a:solidFill>
                <a:latin typeface="Sherwood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Sherwood"/>
              </a:rPr>
              <a:t>RAG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343400" y="15228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rplGoth BT"/>
              </a:rPr>
              <a:t>FEUILLE DE PERSONN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9721800"/>
            <a:ext cx="685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FEUILLE DE PERSONNAGE POUR DONJONS &amp; DRAGONS, 3E EDITION (2001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320" y="19692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ÉCOLE DE MAG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320" y="2286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320" y="137160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95680" y="380880"/>
            <a:ext cx="14479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S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19720" y="774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D DU JET DE SAUVE-GAR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5720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838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rplGoth BT"/>
              </a:rPr>
              <a:t>NIVEA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76920" y="1143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rplGoth B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10080" y="774720"/>
            <a:ext cx="609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SORTS PAR JO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943600" y="7747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SORTS EN BO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24480" y="380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67280" y="380880"/>
            <a:ext cx="609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MOD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AU 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0" y="1523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76920" y="1538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rplGoth BT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opprplGoth BT"/>
              </a:rPr>
              <a:t>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562720" y="1523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95880" y="1523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72000" y="1905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876920" y="1919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rplGoth BT"/>
              </a:rPr>
              <a:t>2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opprplGoth BT"/>
              </a:rPr>
              <a:t>iè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562720" y="1905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5880" y="1905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0" y="2286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876920" y="2300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rplGoth BT"/>
              </a:rPr>
              <a:t>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opprplGoth BT"/>
              </a:rPr>
              <a:t>iè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562720" y="2286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5880" y="2286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76920" y="2681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rplGoth BT"/>
              </a:rPr>
              <a:t>4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opprplGoth BT"/>
              </a:rPr>
              <a:t>iè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62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958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876920" y="3062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rplGoth BT"/>
              </a:rPr>
              <a:t>5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opprplGoth BT"/>
              </a:rPr>
              <a:t>iè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048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09588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76920" y="3443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rplGoth BT"/>
              </a:rPr>
              <a:t>6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opprplGoth BT"/>
              </a:rPr>
              <a:t>iè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62720" y="3429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5880" y="3429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876920" y="38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rplGoth BT"/>
              </a:rPr>
              <a:t>7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opprplGoth BT"/>
              </a:rPr>
              <a:t>iè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562720" y="3809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95880" y="3809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5720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76920" y="4205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rplGoth BT"/>
              </a:rPr>
              <a:t>8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opprplGoth BT"/>
              </a:rPr>
              <a:t>iè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958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4586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rplGoth BT"/>
              </a:rPr>
              <a:t>9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opprplGoth BT"/>
              </a:rPr>
              <a:t>iè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62720" y="4572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58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52280" y="25146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52280" y="156852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280" y="1600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352680" y="1600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352680" y="156852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SPHÈ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1905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2280" y="187308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IVE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1440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14400" y="187308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OMPOSA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1905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28800" y="1873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S D’INCA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97180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71800" y="187308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RT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3392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733920" y="187308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ZONE D’EFF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522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52280" y="217800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UR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14400" y="2209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914400" y="217800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JET DE SAUVEGAR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73392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3920" y="2178000"/>
            <a:ext cx="685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ÉSIST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Á LA MAG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280" y="278748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2280" y="2819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7339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733920" y="2787480"/>
            <a:ext cx="68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ÈF. PA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6320" y="1371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958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6095520" y="1143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495680" y="6172200"/>
            <a:ext cx="22860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herwood"/>
              </a:rPr>
              <a:t>OBJETS MAG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320" y="30481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2280" y="4191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280" y="324468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228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324468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SPHÈ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280" y="3581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2280" y="354960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IVE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9144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914400" y="354960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OMPOSA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828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28800" y="3549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S D’INCA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97180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971800" y="35496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RT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73392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54960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ZONE D’EFF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2280" y="385452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UR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14400" y="38862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385452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JET DE SAUVEGAR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733920" y="3886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733920" y="3854520"/>
            <a:ext cx="685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ÉSIST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Á LA MAG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2280" y="446400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2280" y="44956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73392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33920" y="4464000"/>
            <a:ext cx="68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ÈF. PA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6320" y="30481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6320" y="472428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2280" y="58672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52280" y="492120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2280" y="4952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3526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52680" y="492120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SPHÈ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22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52280" y="522612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IVE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522612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OMPOSA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2880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2261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S D’INCA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7180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71800" y="52261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RT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7339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33920" y="52261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ZONE D’EFF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52280" y="5562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52280" y="553068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UR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14400" y="5562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914400" y="553068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JET DE SAUVEGAR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7339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33920" y="5530680"/>
            <a:ext cx="685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ÉSIST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Á LA MAG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2280" y="614052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6172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733920" y="6172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733920" y="6140520"/>
            <a:ext cx="68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ÈF. PA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320" y="47242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320" y="640080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52280" y="75438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2280" y="659772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2280" y="6629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52680" y="6629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52680" y="659772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SPHÈ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52280" y="6934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52280" y="690228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IVE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14400" y="6934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14400" y="690228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OMPOSA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28800" y="6934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828800" y="6902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S D’INCA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971800" y="6934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71800" y="690228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RT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733920" y="6934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33920" y="690228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ZONE D’EFF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52280" y="7238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52280" y="720720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UR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4400" y="7238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14400" y="720720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JET DE SAUVEGAR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733920" y="7238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733920" y="7207200"/>
            <a:ext cx="685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ÉSIST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Á LA MAG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280" y="781668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52280" y="7848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733920" y="7848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733920" y="7816680"/>
            <a:ext cx="68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ÈF. PA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64008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6320" y="80773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52280" y="9220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2280" y="827388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2280" y="8305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52680" y="8305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52680" y="827388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SPHÈ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280" y="8610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52280" y="857880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IVE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914400" y="8610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914400" y="857880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OMPOSA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28800" y="8610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828800" y="85788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S D’INCA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971800" y="8610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971800" y="8578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RT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33920" y="8610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733920" y="857880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ZONE D’EFF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52280" y="8915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52280" y="888372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UR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4400" y="8915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888372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JET DE SAUVEGAR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733920" y="8915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33920" y="8883720"/>
            <a:ext cx="685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ÉSIST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Á LA MAG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52280" y="949320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52280" y="9524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733920" y="9524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33920" y="9493200"/>
            <a:ext cx="68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ÈF. PA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320" y="80773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95680" y="7010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95680" y="7238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95680" y="7467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495680" y="769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495680" y="7924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495680" y="8153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95680" y="8381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495680" y="8610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495680" y="883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495680" y="9067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495680" y="9296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495680" y="9524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320" y="5335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320" y="7621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6320" y="9907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6320" y="1219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6320" y="118728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O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572000" y="49528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rplGoth BT"/>
              </a:rPr>
              <a:t>NOMBRE DE SORTS CONN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495680" y="51814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724280" y="5334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105520" y="5181480"/>
            <a:ext cx="380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1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4864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867280" y="518148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2iè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24852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495680" y="53784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3iè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724280" y="5530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105520" y="53784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4iè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86400" y="5530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867280" y="53784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5iè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248520" y="5562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495680" y="56070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6iè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724280" y="5759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105520" y="56070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7iè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486400" y="5759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67280" y="56070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8iè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24852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95680" y="58356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9iè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724280" y="5987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95680" y="6781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4419720" y="-76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erwood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Sherwood"/>
              </a:rPr>
              <a:t>ONJONS &amp; </a:t>
            </a:r>
            <a:r>
              <a:rPr b="0" lang="en-US" sz="2000" spc="-1" strike="noStrike">
                <a:solidFill>
                  <a:srgbClr val="000000"/>
                </a:solidFill>
                <a:latin typeface="Sherwood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Sherwood"/>
              </a:rPr>
              <a:t>RAG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43400" y="15228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rplGoth BT"/>
              </a:rPr>
              <a:t>FEUILLE DE PERSONN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9721800"/>
            <a:ext cx="685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FEUILLE DE PERSONNAGE POUR DONJONS &amp; DRAGONS, 3E EDITION (2001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6320" y="763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2280" y="1219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280" y="27288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52280" y="304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52680" y="304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52680" y="27288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SPHÈ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52280" y="609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52280" y="57780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IVE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914400" y="609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914400" y="57780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OMPOSA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828800" y="609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828800" y="5778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S D’INCA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971800" y="609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971800" y="577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RT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733920" y="609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733920" y="57780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ZONE D’EFF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52280" y="914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52280" y="88272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UR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14400" y="914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914400" y="88272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JET DE SAUVEGAR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733920" y="914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733920" y="882720"/>
            <a:ext cx="685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ÉSIST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Á LA MAG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52280" y="149220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52280" y="1523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733920" y="1523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733920" y="1492200"/>
            <a:ext cx="68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ÈF. PA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6320" y="763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6320" y="175248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52280" y="2895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2280" y="194940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2280" y="1981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352680" y="1981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352680" y="194940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SPHÈ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22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25432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IVE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14400" y="2286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14400" y="225432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OMPOSA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828800" y="2254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S D’INCA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97180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971800" y="22543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RT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7339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733920" y="22543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ZONE D’EFF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52280" y="259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52280" y="255888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UR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914400" y="2590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14400" y="255888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JET DE SAUVEGAR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7339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733920" y="2558880"/>
            <a:ext cx="685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ÉSIST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Á LA MAG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52280" y="316872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52280" y="3200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73392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33920" y="3168720"/>
            <a:ext cx="68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ÈF. PA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6320" y="17524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6320" y="342900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2280" y="45720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52280" y="362592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2280" y="36576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3526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352680" y="362592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SPHÈ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52280" y="396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52280" y="393048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IVE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91440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914400" y="393048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OMPOSA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82880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39304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S D’INCA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97180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971800" y="393048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RT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73392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733920" y="393048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ZONE D’EFF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52280" y="4267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52280" y="423540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UR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914400" y="4267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914400" y="423540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JET DE SAUVEGAR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4267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733920" y="4235400"/>
            <a:ext cx="685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ÉSIST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Á LA MAG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2280" y="484488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2280" y="4876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7339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33920" y="4844880"/>
            <a:ext cx="68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ÈF. PA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6320" y="34290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6320" y="51055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5228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52280" y="530208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522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5268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352680" y="530208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SPHÈ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52280" y="5638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52280" y="560700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IVE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914400" y="5638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914400" y="560700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OMPOSA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828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828800" y="56070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S D’INCA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71800" y="5638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971800" y="56070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RT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733920" y="5638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733920" y="560700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ZONE D’EFF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280" y="5943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52280" y="591192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UR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914400" y="5943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914400" y="591192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JET DE SAUVEGAR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7339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733920" y="5911920"/>
            <a:ext cx="685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ÉSIST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Á LA MAG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52280" y="652140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52280" y="65530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733920" y="6553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733920" y="6521400"/>
            <a:ext cx="68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ÈF. PA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6320" y="510552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6320" y="678168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52280" y="79246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52280" y="697860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2280" y="7010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352680" y="7010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352680" y="697860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SPHÈ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2280" y="7315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52280" y="728352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NIVE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4400" y="7315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14400" y="728352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COMPOSA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828800" y="7315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828800" y="72835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TEMPS D’INCA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971800" y="7315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71800" y="72835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PORT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733920" y="7315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733920" y="72835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ZONE D’EFF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52280" y="7620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52280" y="758808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URÉ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14400" y="7620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14400" y="758808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JET DE SAUVEGAR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733920" y="7620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733920" y="7588080"/>
            <a:ext cx="685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ÉSIST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Á LA MAG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819792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52280" y="8229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733920" y="8229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33920" y="8197920"/>
            <a:ext cx="68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RÈF. PA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6320" y="678168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95680" y="609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95680" y="838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95680" y="1066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95680" y="1295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95680" y="1523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95680" y="1523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95680" y="1752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9568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95680" y="2209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95680" y="2438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95680" y="2895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95680" y="3124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495680" y="3352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9568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495680" y="4038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495680" y="4267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49568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495680" y="4724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495680" y="4952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95680" y="5181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5680" y="5410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495680" y="5638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95680" y="5867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95680" y="6095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495680" y="6324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95680" y="6553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495680" y="6781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95680" y="7010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495680" y="7238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495680" y="7467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495680" y="769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495680" y="7924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495680" y="8153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6320" y="8458200"/>
            <a:ext cx="6705360" cy="12193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495680" y="8381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4419720" y="-76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erwood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Sherwood"/>
              </a:rPr>
              <a:t>ONJONS &amp; </a:t>
            </a:r>
            <a:r>
              <a:rPr b="0" lang="en-US" sz="2000" spc="-1" strike="noStrike">
                <a:solidFill>
                  <a:srgbClr val="000000"/>
                </a:solidFill>
                <a:latin typeface="Sherwood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Sherwood"/>
              </a:rPr>
              <a:t>RAG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343400" y="15228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pprplGoth BT"/>
              </a:rPr>
              <a:t>FEUILLE DE PERSONN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505320" y="6094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6094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505320" y="8380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6320" y="8380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505320" y="10666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320" y="10666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505320" y="1295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6320" y="1295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505320" y="1523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6320" y="1523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505320" y="17524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6320" y="17524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505320" y="19810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6320" y="19810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505320" y="22096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6320" y="22096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505320" y="2438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6320" y="2438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505320" y="2666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320" y="2666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8954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6320" y="28954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505320" y="31240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6320" y="31240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505320" y="33526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6320" y="33526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505320" y="3581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6320" y="3581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05320" y="3809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6320" y="3809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505320" y="40384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6320" y="40384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505320" y="42670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6320" y="42670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505320" y="44956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6320" y="44956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5053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63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505320" y="4952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320" y="4952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505320" y="51814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320" y="51814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320" y="5410080"/>
            <a:ext cx="6705360" cy="426744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0" y="9721800"/>
            <a:ext cx="685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pprplGoth BT"/>
              </a:rPr>
              <a:t>FEUILLE DE PERSONNAGE POUR DONJONS &amp; DRAGONS, 3E EDITION (2001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3T10:17:51Z</dcterms:created>
  <dc:creator>JeePee</dc:creator>
  <dc:description/>
  <dc:language>en-US</dc:language>
  <cp:lastModifiedBy>JeePee</cp:lastModifiedBy>
  <cp:lastPrinted>2001-03-26T19:51:54Z</cp:lastPrinted>
  <dcterms:modified xsi:type="dcterms:W3CDTF">2001-03-26T19:52:11Z</dcterms:modified>
  <cp:revision>103</cp:revision>
  <dc:subject/>
  <dc:title>Aucun titre de diapositive</dc:title>
</cp:coreProperties>
</file>