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EED-3C9A-41BA-9F98-AEE7B1F9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9F4-AE22-480E-B15C-18162F03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DDB-4AE5-43CF-9862-BBC41D17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ECB-C994-4F5D-B016-F29AB141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D3E-D35E-40C1-A60A-DB3F9781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A33-74C1-4B75-BABB-0363BA0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967-C2CC-466A-8F70-37007DE8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D78-E91A-4196-86D8-757912D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29E-C58C-4DC0-BF87-21973AD4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CAF-C565-4F31-A64E-1916606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EF6-9503-4710-8B08-F7FD2E1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267-D7F7-4A5D-90C7-0774680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987-B06A-4A7A-9531-7A9940DE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erwood"/>
              </a:rPr>
              <a:t>LE TEMPLE DE NER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57200"/>
            <a:ext cx="304776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e temple de Nérull se présente en surface comme un énorme rocher au milieu de la forêt, un monolithe noir sculpté vaguement à l’apparence d’un crâne dont la bouche serait l’entré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a végétation a envahi les abords de l’édifice maud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es gobelins ont établi un campement rudimentaire devant l’entré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9144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16765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17524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18288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9051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19810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0574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1337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2362320"/>
            <a:ext cx="1143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590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2590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16002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15238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14479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3716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2952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12193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1430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590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8195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0481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2767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35053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733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9625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9625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6576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3526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33526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6576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39625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8098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8862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40384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1148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1911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7339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6576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812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5053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34290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3526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8006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8769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49528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0292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1055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1814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7242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5720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4956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44197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3434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59092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590920"/>
            <a:ext cx="75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59092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59092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2590920"/>
            <a:ext cx="75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59092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9092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1240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0481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9718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8954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8195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590920"/>
            <a:ext cx="75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59092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59092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32004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429000"/>
            <a:ext cx="6858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814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1055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02920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952880"/>
            <a:ext cx="228600" cy="7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876920"/>
            <a:ext cx="228600" cy="7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257800"/>
            <a:ext cx="11430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6858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7620120"/>
            <a:ext cx="1447920" cy="190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8381880"/>
            <a:ext cx="1154160" cy="971640"/>
          </a:xfrm>
          <a:custGeom>
            <a:avLst/>
            <a:gdLst/>
            <a:ahLst/>
            <a:rect l="l" t="t" r="r" b="b"/>
            <a:pathLst>
              <a:path w="727" h="612">
                <a:moveTo>
                  <a:pt x="139" y="54"/>
                </a:moveTo>
                <a:cubicBezTo>
                  <a:pt x="108" y="85"/>
                  <a:pt x="78" y="112"/>
                  <a:pt x="43" y="138"/>
                </a:cubicBezTo>
                <a:cubicBezTo>
                  <a:pt x="34" y="165"/>
                  <a:pt x="22" y="189"/>
                  <a:pt x="13" y="216"/>
                </a:cubicBezTo>
                <a:cubicBezTo>
                  <a:pt x="34" y="368"/>
                  <a:pt x="0" y="559"/>
                  <a:pt x="187" y="576"/>
                </a:cubicBezTo>
                <a:cubicBezTo>
                  <a:pt x="235" y="580"/>
                  <a:pt x="283" y="584"/>
                  <a:pt x="331" y="588"/>
                </a:cubicBezTo>
                <a:cubicBezTo>
                  <a:pt x="383" y="605"/>
                  <a:pt x="355" y="597"/>
                  <a:pt x="415" y="612"/>
                </a:cubicBezTo>
                <a:cubicBezTo>
                  <a:pt x="449" y="610"/>
                  <a:pt x="483" y="611"/>
                  <a:pt x="517" y="606"/>
                </a:cubicBezTo>
                <a:cubicBezTo>
                  <a:pt x="540" y="603"/>
                  <a:pt x="551" y="572"/>
                  <a:pt x="565" y="558"/>
                </a:cubicBezTo>
                <a:cubicBezTo>
                  <a:pt x="577" y="546"/>
                  <a:pt x="593" y="538"/>
                  <a:pt x="607" y="528"/>
                </a:cubicBezTo>
                <a:cubicBezTo>
                  <a:pt x="621" y="487"/>
                  <a:pt x="630" y="489"/>
                  <a:pt x="649" y="456"/>
                </a:cubicBezTo>
                <a:cubicBezTo>
                  <a:pt x="661" y="435"/>
                  <a:pt x="668" y="412"/>
                  <a:pt x="679" y="390"/>
                </a:cubicBezTo>
                <a:cubicBezTo>
                  <a:pt x="703" y="343"/>
                  <a:pt x="697" y="285"/>
                  <a:pt x="727" y="240"/>
                </a:cubicBezTo>
                <a:cubicBezTo>
                  <a:pt x="719" y="162"/>
                  <a:pt x="720" y="157"/>
                  <a:pt x="649" y="126"/>
                </a:cubicBezTo>
                <a:cubicBezTo>
                  <a:pt x="632" y="109"/>
                  <a:pt x="621" y="92"/>
                  <a:pt x="601" y="78"/>
                </a:cubicBezTo>
                <a:cubicBezTo>
                  <a:pt x="549" y="0"/>
                  <a:pt x="313" y="25"/>
                  <a:pt x="271" y="24"/>
                </a:cubicBezTo>
                <a:cubicBezTo>
                  <a:pt x="253" y="26"/>
                  <a:pt x="235" y="27"/>
                  <a:pt x="217" y="30"/>
                </a:cubicBezTo>
                <a:cubicBezTo>
                  <a:pt x="187" y="35"/>
                  <a:pt x="174" y="54"/>
                  <a:pt x="139" y="5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6320" y="5819760"/>
            <a:ext cx="476280" cy="1800360"/>
          </a:xfrm>
          <a:custGeom>
            <a:avLst/>
            <a:gdLst/>
            <a:ahLst/>
            <a:rect l="l" t="t" r="r" b="b"/>
            <a:pathLst>
              <a:path w="300" h="1134">
                <a:moveTo>
                  <a:pt x="72" y="0"/>
                </a:moveTo>
                <a:cubicBezTo>
                  <a:pt x="96" y="6"/>
                  <a:pt x="123" y="4"/>
                  <a:pt x="144" y="18"/>
                </a:cubicBezTo>
                <a:cubicBezTo>
                  <a:pt x="187" y="47"/>
                  <a:pt x="206" y="90"/>
                  <a:pt x="234" y="132"/>
                </a:cubicBezTo>
                <a:cubicBezTo>
                  <a:pt x="244" y="147"/>
                  <a:pt x="259" y="159"/>
                  <a:pt x="270" y="174"/>
                </a:cubicBezTo>
                <a:cubicBezTo>
                  <a:pt x="288" y="228"/>
                  <a:pt x="286" y="291"/>
                  <a:pt x="300" y="348"/>
                </a:cubicBezTo>
                <a:cubicBezTo>
                  <a:pt x="278" y="494"/>
                  <a:pt x="297" y="671"/>
                  <a:pt x="126" y="714"/>
                </a:cubicBezTo>
                <a:cubicBezTo>
                  <a:pt x="110" y="736"/>
                  <a:pt x="94" y="758"/>
                  <a:pt x="78" y="780"/>
                </a:cubicBezTo>
                <a:cubicBezTo>
                  <a:pt x="69" y="832"/>
                  <a:pt x="50" y="881"/>
                  <a:pt x="30" y="930"/>
                </a:cubicBezTo>
                <a:cubicBezTo>
                  <a:pt x="18" y="960"/>
                  <a:pt x="16" y="990"/>
                  <a:pt x="6" y="1020"/>
                </a:cubicBezTo>
                <a:cubicBezTo>
                  <a:pt x="0" y="1130"/>
                  <a:pt x="0" y="1092"/>
                  <a:pt x="0" y="1134"/>
                </a:cubicBezTo>
              </a:path>
            </a:pathLst>
          </a:custGeom>
          <a:noFill/>
          <a:ln w="6336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5909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24382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909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5909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962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5410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5627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77724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5053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590920"/>
            <a:ext cx="152280" cy="2286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689000">
            <a:off x="3352320" y="2590560"/>
            <a:ext cx="152640" cy="2286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077600">
            <a:off x="2933640" y="2780640"/>
            <a:ext cx="152280" cy="2286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9257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077600">
            <a:off x="2933280" y="5600520"/>
            <a:ext cx="152640" cy="2286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7452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077600">
            <a:off x="1333440" y="5981040"/>
            <a:ext cx="152280" cy="2286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657600"/>
            <a:ext cx="7632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886200"/>
            <a:ext cx="7632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4114800"/>
            <a:ext cx="7632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343400"/>
            <a:ext cx="7632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4572000"/>
            <a:ext cx="7632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7596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886200"/>
            <a:ext cx="7596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114800"/>
            <a:ext cx="7596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343400"/>
            <a:ext cx="7596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572000"/>
            <a:ext cx="75960" cy="152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355600">
            <a:off x="1789920" y="8191440"/>
            <a:ext cx="152280" cy="2286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699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Entr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914400"/>
            <a:ext cx="457200" cy="152280"/>
          </a:xfrm>
          <a:custGeom>
            <a:avLst/>
            <a:gdLst/>
            <a:ahLst/>
            <a:rect l="l" t="t" r="r" b="b"/>
            <a:pathLst>
              <a:path w="288" h="96">
                <a:moveTo>
                  <a:pt x="0" y="0"/>
                </a:moveTo>
                <a:cubicBezTo>
                  <a:pt x="50" y="14"/>
                  <a:pt x="99" y="24"/>
                  <a:pt x="150" y="30"/>
                </a:cubicBezTo>
                <a:cubicBezTo>
                  <a:pt x="184" y="47"/>
                  <a:pt x="220" y="48"/>
                  <a:pt x="258" y="54"/>
                </a:cubicBezTo>
                <a:cubicBezTo>
                  <a:pt x="276" y="66"/>
                  <a:pt x="288" y="74"/>
                  <a:pt x="288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520" y="923760"/>
            <a:ext cx="399960" cy="123840"/>
          </a:xfrm>
          <a:custGeom>
            <a:avLst/>
            <a:gdLst/>
            <a:ahLst/>
            <a:rect l="l" t="t" r="r" b="b"/>
            <a:pathLst>
              <a:path w="252" h="78">
                <a:moveTo>
                  <a:pt x="252" y="0"/>
                </a:moveTo>
                <a:cubicBezTo>
                  <a:pt x="154" y="7"/>
                  <a:pt x="136" y="18"/>
                  <a:pt x="54" y="54"/>
                </a:cubicBezTo>
                <a:cubicBezTo>
                  <a:pt x="48" y="57"/>
                  <a:pt x="0" y="63"/>
                  <a:pt x="0" y="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85800"/>
            <a:ext cx="17524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all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Salle des id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Fouille avec un DD 15 pour découvrir les passages secrets derrière les idoles du dieu de la M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438280"/>
            <a:ext cx="1752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Book Antiqua"/>
              </a:rPr>
              <a:t>Sall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es cellules des moines de Nérull abritent encore ceux qui ont été condamnés à servir le dieu de la Mort jusqu’à la fin des te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429000"/>
            <a:ext cx="1905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all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La salle des sarcophages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elle abrite d’horribles mom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523880" y="38098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1447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81296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pp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(1d6 de dommag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Fouille avec un DD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362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240" y="342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5105520"/>
            <a:ext cx="152280" cy="37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5567400"/>
            <a:ext cx="152280" cy="37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562720"/>
            <a:ext cx="152280" cy="37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105520"/>
            <a:ext cx="152280" cy="37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232680"/>
            <a:ext cx="1905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Book Antiqua"/>
              </a:rPr>
              <a:t>Salle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Grande salle d’offrande à Nérull; Le plafond de cette salle est soutenu par quatre colonnes et les murs sont garnis de tapisseries moisi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Fouille avec un DD 20 pour découvrir le passage secr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" y="5791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6689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318280"/>
            <a:ext cx="221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Book Antiqua"/>
              </a:rPr>
              <a:t>Sall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Petite salle d’offrande à Nérull; Fouille avec un DD de 20 pour découvrir le passage secre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7620120"/>
            <a:ext cx="19047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Book Antiqua"/>
              </a:rPr>
              <a:t>Sall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a salle du gouffre où repose le rejeton de Nérul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ook Antiqua"/>
              </a:rPr>
              <a:t>L’autel sert à catalyser l’énergie magique et l’incantation provoque son réveil après 1d6+2 roun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248520" y="9372600"/>
          <a:ext cx="533160" cy="457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937260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381400" y="5972040"/>
            <a:ext cx="618840" cy="590760"/>
          </a:xfrm>
          <a:custGeom>
            <a:avLst/>
            <a:gdLst/>
            <a:ahLst/>
            <a:rect l="l" t="t" r="r" b="b"/>
            <a:pathLst>
              <a:path w="390" h="372">
                <a:moveTo>
                  <a:pt x="390" y="0"/>
                </a:moveTo>
                <a:cubicBezTo>
                  <a:pt x="381" y="27"/>
                  <a:pt x="377" y="43"/>
                  <a:pt x="360" y="66"/>
                </a:cubicBezTo>
                <a:cubicBezTo>
                  <a:pt x="334" y="143"/>
                  <a:pt x="271" y="219"/>
                  <a:pt x="204" y="264"/>
                </a:cubicBezTo>
                <a:cubicBezTo>
                  <a:pt x="186" y="291"/>
                  <a:pt x="157" y="297"/>
                  <a:pt x="126" y="312"/>
                </a:cubicBezTo>
                <a:cubicBezTo>
                  <a:pt x="84" y="333"/>
                  <a:pt x="42" y="351"/>
                  <a:pt x="0" y="372"/>
                </a:cubicBezTo>
              </a:path>
            </a:pathLst>
          </a:custGeom>
          <a:noFill/>
          <a:ln w="6336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20:38Z</dcterms:created>
  <dc:creator>JeePee</dc:creator>
  <dc:description/>
  <dc:language>en-US</dc:language>
  <cp:lastModifiedBy>JeePee</cp:lastModifiedBy>
  <cp:lastPrinted>2001-06-27T17:35:20Z</cp:lastPrinted>
  <dcterms:modified xsi:type="dcterms:W3CDTF">2001-06-27T17:35:53Z</dcterms:modified>
  <cp:revision>13</cp:revision>
  <dc:subject/>
  <dc:title>Aucun titre de diapositive</dc:title>
</cp:coreProperties>
</file>